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E37-1B04-49EA-85CB-41C5CDBA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8407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5160" y="4105440"/>
            <a:ext cx="8407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EC9-E1B1-4DEE-8AEE-3F7AA1D7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3280" y="195588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5160" y="41054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3280" y="41054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9A3-4942-47F1-A646-2E80776C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7720" y="195588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0280" y="195588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5160" y="410544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7720" y="410544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0280" y="4105440"/>
            <a:ext cx="27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51D-A1F4-49E2-A630-C323CCF1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5160" y="1955880"/>
            <a:ext cx="840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3F7-C8EC-4954-B08E-C14E6326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8407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409-ECF3-4179-967C-7126B8FE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410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3280" y="1955880"/>
            <a:ext cx="410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0B2-3D45-4597-BF1D-84CB6CCE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C2A-ACCD-41FA-8C74-6C98ACE0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8600" y="786960"/>
            <a:ext cx="721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D8A-12B8-4F9D-A5F7-D2F9CE52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3280" y="1955880"/>
            <a:ext cx="410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5160" y="41054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6F9-7329-46EA-A697-EA8EDA25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410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3280" y="195588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3280" y="410544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EEC-E9AF-49FC-B509-452028F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5160" y="195588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3280" y="1955880"/>
            <a:ext cx="4102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5160" y="4105440"/>
            <a:ext cx="8407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F7B-A295-40E4-A348-DCB7D176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1AF8-4AFB-40DB-B4F5-C01BC42B7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858600" y="78696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5160" y="195588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Click to edit the outline text format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1" marL="402120" indent="-3013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Second Outline Level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2" marL="754200" indent="-2509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Third Outline Level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3" marL="1206720" indent="-3013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Fourth Outline Level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4" marL="1609200" indent="-2512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Book Antiqua"/>
              <a:buChar char="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Fifth Outline Level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5" marL="1609200" indent="-2512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Book Antiqua"/>
              <a:buChar char="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Sixth Outline Level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6" marL="1609200" indent="-2512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Book Antiqua"/>
              <a:buChar char="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Seventh Outline Level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ultiresolution Analysis of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rbitrary Mesh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95160" y="2717280"/>
            <a:ext cx="7763040" cy="3048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9b03"/>
                </a:solidFill>
                <a:latin typeface="Arial"/>
              </a:rPr>
              <a:t>Matthias Eck</a:t>
            </a:r>
            <a:endParaRPr b="1" i="1" lang="en-US" sz="32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joint with</a:t>
            </a:r>
            <a:endParaRPr b="1" i="1" lang="en-US" sz="24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9b03"/>
                </a:solidFill>
                <a:latin typeface="Arial"/>
              </a:rPr>
              <a:t>Tony DeRose, Tom Duchamp, Hugues Hoppe,</a:t>
            </a:r>
            <a:endParaRPr b="1" i="1" lang="en-US" sz="24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9b03"/>
                </a:solidFill>
                <a:latin typeface="Arial"/>
              </a:rPr>
              <a:t>Michael Lounsbery and Werner Stuetzle</a:t>
            </a:r>
            <a:endParaRPr b="1" i="1" lang="en-US" sz="24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49200" y="5745240"/>
            <a:ext cx="66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. of Darmstadt , U. of Washington ,  Microsoft , Al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flipH="1">
            <a:off x="2133360" y="1955880"/>
            <a:ext cx="685800" cy="68580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1955880"/>
            <a:ext cx="685800" cy="68580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28840" y="609480"/>
            <a:ext cx="2667240" cy="266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33360" y="2874960"/>
            <a:ext cx="2763720" cy="2763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48360" y="2874960"/>
            <a:ext cx="2763720" cy="2763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65160" y="609480"/>
            <a:ext cx="7213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040" y="2112840"/>
            <a:ext cx="8305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1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2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Multiresolution edi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3. Level-of-detail contro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4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Progressive transmission and render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3840" y="3517920"/>
            <a:ext cx="5232240" cy="50796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4280" y="3048120"/>
            <a:ext cx="2336760" cy="233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03440" y="3048120"/>
            <a:ext cx="2337120" cy="233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222960" y="3048120"/>
            <a:ext cx="2336760" cy="233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403440" y="609480"/>
            <a:ext cx="2337120" cy="233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13080" y="5600880"/>
            <a:ext cx="4317840" cy="66024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o visual discontinu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65160" y="609480"/>
            <a:ext cx="7213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040" y="2112840"/>
            <a:ext cx="8305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1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2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Multiresolution edi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3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Level-of-detail contro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4.</a:t>
            </a: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Progressive transmission and render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9800" y="4127400"/>
            <a:ext cx="8204400" cy="66060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65520" y="2717640"/>
            <a:ext cx="2108160" cy="2108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70320" y="2070000"/>
            <a:ext cx="2070000" cy="207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66760" y="838080"/>
            <a:ext cx="2362320" cy="68580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se shape M </a:t>
            </a:r>
            <a:r>
              <a:rPr b="1" lang="en-US" sz="2800" spc="-1" strike="noStrike" baseline="36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5486400"/>
            <a:ext cx="2057400" cy="53352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h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2082960" cy="2082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680160" y="3403440"/>
            <a:ext cx="2108160" cy="2108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8600" y="3073320"/>
            <a:ext cx="721332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2. Our contribution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58600" y="3073320"/>
            <a:ext cx="721332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2. Our contribution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8600" y="609480"/>
            <a:ext cx="721332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Previous work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4800" y="1803240"/>
            <a:ext cx="7915320" cy="4445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Lounsbery, DeRose, Warren 1993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s general framework for M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ds wavelet analysis to surfaces of arbitrary top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Schroeder, Sweldens 1995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ilar work on sphe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1880" y="736560"/>
            <a:ext cx="8220240" cy="2082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However ... 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put surface must be parametrized over a simple </a:t>
            </a: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domain mesh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57320" y="3301920"/>
            <a:ext cx="2297160" cy="2490840"/>
            <a:chOff x="1057320" y="3301920"/>
            <a:chExt cx="2297160" cy="2490840"/>
          </a:xfrm>
        </p:grpSpPr>
        <p:sp>
          <p:nvSpPr>
            <p:cNvPr id="107" name=""/>
            <p:cNvSpPr/>
            <p:nvPr/>
          </p:nvSpPr>
          <p:spPr>
            <a:xfrm>
              <a:off x="1057320" y="3301920"/>
              <a:ext cx="1274760" cy="1716120"/>
            </a:xfrm>
            <a:custGeom>
              <a:avLst/>
              <a:gdLst/>
              <a:ahLst/>
              <a:rect l="l" t="t" r="r" b="b"/>
              <a:pathLst>
                <a:path w="803" h="1081">
                  <a:moveTo>
                    <a:pt x="785" y="0"/>
                  </a:moveTo>
                  <a:lnTo>
                    <a:pt x="0" y="681"/>
                  </a:lnTo>
                  <a:lnTo>
                    <a:pt x="802" y="1080"/>
                  </a:lnTo>
                  <a:lnTo>
                    <a:pt x="785" y="0"/>
                  </a:lnTo>
                </a:path>
              </a:pathLst>
            </a:custGeom>
            <a:solidFill>
              <a:srgbClr val="ffbb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3640" y="3301920"/>
              <a:ext cx="1022040" cy="1716120"/>
            </a:xfrm>
            <a:custGeom>
              <a:avLst/>
              <a:gdLst/>
              <a:ahLst/>
              <a:rect l="l" t="t" r="r" b="b"/>
              <a:pathLst>
                <a:path w="644" h="1081">
                  <a:moveTo>
                    <a:pt x="0" y="0"/>
                  </a:moveTo>
                  <a:lnTo>
                    <a:pt x="52" y="35"/>
                  </a:lnTo>
                  <a:lnTo>
                    <a:pt x="643" y="681"/>
                  </a:lnTo>
                  <a:lnTo>
                    <a:pt x="17" y="1080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ffbb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7320" y="4383000"/>
              <a:ext cx="1274760" cy="1409760"/>
            </a:xfrm>
            <a:custGeom>
              <a:avLst/>
              <a:gdLst/>
              <a:ahLst/>
              <a:rect l="l" t="t" r="r" b="b"/>
              <a:pathLst>
                <a:path w="803" h="888">
                  <a:moveTo>
                    <a:pt x="0" y="0"/>
                  </a:moveTo>
                  <a:lnTo>
                    <a:pt x="767" y="887"/>
                  </a:lnTo>
                  <a:lnTo>
                    <a:pt x="802" y="399"/>
                  </a:lnTo>
                  <a:lnTo>
                    <a:pt x="0" y="0"/>
                  </a:lnTo>
                </a:path>
              </a:pathLst>
            </a:custGeom>
            <a:solidFill>
              <a:srgbClr val="ffbb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74840" y="4383000"/>
              <a:ext cx="1079640" cy="1409760"/>
            </a:xfrm>
            <a:custGeom>
              <a:avLst/>
              <a:gdLst/>
              <a:ahLst/>
              <a:rect l="l" t="t" r="r" b="b"/>
              <a:pathLst>
                <a:path w="680" h="888">
                  <a:moveTo>
                    <a:pt x="679" y="0"/>
                  </a:moveTo>
                  <a:lnTo>
                    <a:pt x="0" y="887"/>
                  </a:lnTo>
                  <a:lnTo>
                    <a:pt x="35" y="399"/>
                  </a:lnTo>
                  <a:lnTo>
                    <a:pt x="662" y="0"/>
                  </a:lnTo>
                  <a:lnTo>
                    <a:pt x="679" y="0"/>
                  </a:lnTo>
                </a:path>
              </a:pathLst>
            </a:custGeom>
            <a:solidFill>
              <a:srgbClr val="ffbb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05280" y="3027240"/>
            <a:ext cx="3179880" cy="3151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406960" y="3749760"/>
            <a:ext cx="4820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55080" y="3747960"/>
            <a:ext cx="9349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4419720"/>
            <a:ext cx="106704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39120" y="3749760"/>
            <a:ext cx="38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5160" y="520560"/>
            <a:ext cx="721368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The problem ...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1080" y="1650960"/>
            <a:ext cx="7521840" cy="1625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5000"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hes are typically given as collection of triangles, thus 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MRA algorithms cannot directly be applied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4760" y="2336400"/>
            <a:ext cx="6379920" cy="2616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1. 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Motivation and applications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2. 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Our contribution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3. 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Results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4. 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Summary and future work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73800" y="3746520"/>
            <a:ext cx="2921040" cy="292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6781680" y="2952720"/>
            <a:ext cx="2336760" cy="1041480"/>
          </a:xfrm>
          <a:custGeom>
            <a:avLst/>
            <a:gdLst>
              <a:gd name="textAreaLeft" fmla="*/ 86400 w 2336760"/>
              <a:gd name="textAreaRight" fmla="*/ 2250360 w 2336760"/>
              <a:gd name="textAreaTop" fmla="*/ 38520 h 1041480"/>
              <a:gd name="textAreaBottom" fmla="*/ 831960 h 1041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e9b0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’m 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ametrized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7150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721368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... and our solution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422360"/>
            <a:ext cx="8610840" cy="2006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step 1: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struc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imple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domain mesh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715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57150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5480" y="3784680"/>
            <a:ext cx="278136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73800" y="3746520"/>
            <a:ext cx="2921040" cy="292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721368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... and our solution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422360"/>
            <a:ext cx="8610840" cy="2006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step 1: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struc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imple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domain mesh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step 2: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struc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parametrization </a:t>
            </a:r>
            <a:r>
              <a:rPr b="1" i="1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1" i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5181480"/>
            <a:ext cx="13716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419720"/>
            <a:ext cx="76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5715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57150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5480" y="3784680"/>
            <a:ext cx="278136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73800" y="3746520"/>
            <a:ext cx="2921040" cy="292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888240" y="3103560"/>
            <a:ext cx="1660320" cy="923760"/>
          </a:xfrm>
          <a:custGeom>
            <a:avLst/>
            <a:gdLst>
              <a:gd name="textAreaLeft" fmla="*/ 61200 w 1660320"/>
              <a:gd name="textAreaRight" fmla="*/ 1599120 w 1660320"/>
              <a:gd name="textAreaTop" fmla="*/ 34200 h 923760"/>
              <a:gd name="textAreaBottom" fmla="*/ 738000 h 9237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e9b0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RA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e9b03"/>
                </a:solidFill>
                <a:latin typeface="Arial"/>
              </a:rPr>
              <a:t>step1:</a:t>
            </a:r>
            <a:br>
              <a:rPr sz="3700"/>
            </a:b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onstruction of domain mesh 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33600" y="2590560"/>
            <a:ext cx="6076800" cy="1904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7000"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Main idea: 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partitio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M  into triangular regions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main mesh K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65280" y="4754520"/>
            <a:ext cx="83844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333600" y="1879560"/>
            <a:ext cx="2568600" cy="254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990720" y="46483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h 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00680" y="46483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par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46483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main mesh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1879560"/>
            <a:ext cx="2540160" cy="254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55680" y="1879560"/>
            <a:ext cx="2539800" cy="254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2590920" y="3200400"/>
            <a:ext cx="10666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3200400"/>
            <a:ext cx="10666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4094280"/>
            <a:ext cx="2897280" cy="458640"/>
          </a:xfrm>
          <a:custGeom>
            <a:avLst/>
            <a:gdLst/>
            <a:ahLst/>
            <a:rect l="l" t="t" r="r" b="b"/>
            <a:pathLst>
              <a:path w="1825" h="289">
                <a:moveTo>
                  <a:pt x="0" y="0"/>
                </a:moveTo>
                <a:lnTo>
                  <a:pt x="0" y="288"/>
                </a:lnTo>
                <a:lnTo>
                  <a:pt x="1824" y="288"/>
                </a:lnTo>
                <a:lnTo>
                  <a:pt x="1824" y="0"/>
                </a:lnTo>
                <a:lnTo>
                  <a:pt x="1824" y="0"/>
                </a:lnTo>
              </a:path>
            </a:pathLst>
          </a:custGeom>
          <a:noFill/>
          <a:ln cap="rnd" w="2556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5160" y="761760"/>
            <a:ext cx="72136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How to get partition ?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6560" y="1981080"/>
            <a:ext cx="8210880" cy="3962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Our requirem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ological type of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 topological type of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number of triangular reg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oth and straight bound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9b03"/>
                </a:solidFill>
                <a:latin typeface="Arial"/>
              </a:rPr>
              <a:t>fully automatic proce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352680" y="4330800"/>
            <a:ext cx="2438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stru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Voronoi-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diagram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4330800"/>
            <a:ext cx="2438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stru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Delaunay-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trian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00480" y="1873080"/>
            <a:ext cx="2544840" cy="2544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31080" y="1879560"/>
            <a:ext cx="2568240" cy="254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55680" y="1879560"/>
            <a:ext cx="2539800" cy="254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2662200" y="3181320"/>
            <a:ext cx="9540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724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h 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6160" y="3178080"/>
            <a:ext cx="9540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e9b03"/>
                </a:solidFill>
                <a:latin typeface="Arial"/>
              </a:rPr>
              <a:t>step 2:</a:t>
            </a:r>
            <a:br>
              <a:rPr sz="3700"/>
            </a:b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onstruction of parametrizatio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43040" y="4170240"/>
            <a:ext cx="5857920" cy="944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parametrization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5200" y="2035080"/>
            <a:ext cx="7885080" cy="4114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p each face of domain mesh to corresponding triangular reg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cal maps agree on boundari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28960" y="4470480"/>
            <a:ext cx="9540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46840" y="1371600"/>
            <a:ext cx="3660480" cy="3645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2565360" y="56959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cal 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33440" y="1371600"/>
            <a:ext cx="3657600" cy="3657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1752480" y="4532400"/>
            <a:ext cx="4573800" cy="992160"/>
          </a:xfrm>
          <a:custGeom>
            <a:avLst/>
            <a:gdLst/>
            <a:ahLst/>
            <a:rect l="l" t="t" r="r" b="b"/>
            <a:pathLst>
              <a:path w="2881" h="625">
                <a:moveTo>
                  <a:pt x="0" y="0"/>
                </a:moveTo>
                <a:lnTo>
                  <a:pt x="0" y="624"/>
                </a:lnTo>
                <a:lnTo>
                  <a:pt x="2880" y="624"/>
                </a:lnTo>
                <a:lnTo>
                  <a:pt x="2880" y="0"/>
                </a:lnTo>
              </a:path>
            </a:pathLst>
          </a:custGeom>
          <a:noFill/>
          <a:ln cap="rnd" w="2556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65160" y="685440"/>
            <a:ext cx="721368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How to map locally?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6800" y="1828800"/>
            <a:ext cx="761040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Requirements: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xed boundary condi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all distor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Best choice: </a:t>
            </a: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harmonic maps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-known from differential geome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ing the metric distor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Motivation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599840"/>
            <a:ext cx="8534160" cy="762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bf02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problem: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lex shapes = complex meshes</a:t>
            </a:r>
            <a:endParaRPr b="1" i="1" lang="en-US" sz="2800" spc="-1" strike="noStrike">
              <a:solidFill>
                <a:srgbClr val="febf02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17640" y="2793960"/>
            <a:ext cx="3708720" cy="37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4356000" y="2298600"/>
            <a:ext cx="3403800" cy="736560"/>
          </a:xfrm>
          <a:custGeom>
            <a:avLst/>
            <a:gdLst>
              <a:gd name="textAreaLeft" fmla="*/ 126000 w 3403800"/>
              <a:gd name="textAreaRight" fmla="*/ 3277800 w 3403800"/>
              <a:gd name="textAreaTop" fmla="*/ 27000 h 736560"/>
              <a:gd name="textAreaBottom" fmla="*/ 588240 h 736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e9b0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1" i="1" lang="en-US" sz="2400" spc="-1" strike="noStrike">
                <a:solidFill>
                  <a:srgbClr val="d93192"/>
                </a:solidFill>
                <a:latin typeface="Arial"/>
              </a:rPr>
              <a:t>70,000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ces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8480" y="1987560"/>
            <a:ext cx="4429080" cy="315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47600" y="1998720"/>
            <a:ext cx="4000680" cy="315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65160" y="865080"/>
            <a:ext cx="721368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local map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1640" y="5411880"/>
            <a:ext cx="263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lanar tri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49080" y="5430960"/>
            <a:ext cx="300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iangular re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346560" y="4169880"/>
            <a:ext cx="1966680" cy="180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58600" y="3073320"/>
            <a:ext cx="721332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4. Results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58600" y="3073320"/>
            <a:ext cx="721332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4. Results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375240" y="3784680"/>
            <a:ext cx="2210040" cy="2209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76520" y="3784680"/>
            <a:ext cx="2190960" cy="2190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96880" y="3784680"/>
            <a:ext cx="2184480" cy="2184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463920" y="888840"/>
            <a:ext cx="2216160" cy="2216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3038760" y="3156120"/>
            <a:ext cx="2771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 min. , 70,000 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67320" y="6081840"/>
            <a:ext cx="133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2 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58560" y="6081840"/>
            <a:ext cx="280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,000 faces 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lt; 2.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36560" y="6080040"/>
            <a:ext cx="280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,600 faces 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lt; 1.2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352680" y="368280"/>
            <a:ext cx="2438640" cy="2438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2961360" y="2851200"/>
            <a:ext cx="29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 min. , 100,000 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6880" y="6081840"/>
            <a:ext cx="133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9 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58560" y="6081840"/>
            <a:ext cx="280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,000 faces 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lt; 2.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06320" y="6080040"/>
            <a:ext cx="280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,700 faces 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lt; 1.5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79360" y="3479760"/>
            <a:ext cx="2489400" cy="2489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375240" y="3479760"/>
            <a:ext cx="2489400" cy="2489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327480" y="3479760"/>
            <a:ext cx="2489040" cy="2489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63360" y="180720"/>
            <a:ext cx="72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Summary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62040" y="1630440"/>
            <a:ext cx="840744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lvl="1" marL="447840" indent="-3355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iven: An arbitrary mesh 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355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construct: a simple domain mesh and an </a:t>
            </a:r>
            <a:r>
              <a:rPr b="0" lang="en-US" sz="2600" spc="-1" strike="noStrike">
                <a:solidFill>
                  <a:srgbClr val="fafd00"/>
                </a:solidFill>
                <a:latin typeface="Arial"/>
              </a:rPr>
              <a:t>exac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parametrization for M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355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ows MRA to be appl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39880" indent="-279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ght error bound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355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 in other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8600" y="609480"/>
            <a:ext cx="72133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5. Future work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16920" y="1844640"/>
            <a:ext cx="818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Other potential applications of parametriz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6800" y="2514600"/>
            <a:ext cx="7610400" cy="2743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xture mapping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nite element analysis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urface morphing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-spline fitting 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2463840" cy="2463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08560" y="3556080"/>
            <a:ext cx="2489400" cy="2489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162080" y="6111720"/>
            <a:ext cx="263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roximating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94360" y="6110280"/>
            <a:ext cx="271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 - spline control me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02240" y="276120"/>
            <a:ext cx="3255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 - spline fi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325680" y="965160"/>
            <a:ext cx="2492640" cy="2463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33440" y="1294920"/>
            <a:ext cx="6477120" cy="4381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7000"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Difficulties: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lvl="2" marL="659880" indent="-219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59880" indent="-219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mi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59880" indent="-219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59880" indent="-219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d931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di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           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Multiresolution analysis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        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5257800"/>
            <a:ext cx="76212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2920" y="1434960"/>
            <a:ext cx="8318160" cy="398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multiresolution representation of mesh M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=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base shape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100" spc="-1" strike="noStrike" baseline="30000">
                <a:solidFill>
                  <a:srgbClr val="ffffff"/>
                </a:solidFill>
                <a:latin typeface="Arial"/>
              </a:rPr>
              <a:t> 0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+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sum of local correction terms 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wavelet terms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bf0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760" y="457200"/>
            <a:ext cx="2362320" cy="68580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base shap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1" lang="en-US" sz="2800" spc="-1" strike="noStrike" baseline="36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5791320"/>
            <a:ext cx="2057400" cy="53316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h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43400" y="4876920"/>
                <a:ext cx="12621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··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90920" y="1905120"/>
            <a:ext cx="6858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905120"/>
            <a:ext cx="6858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1905120"/>
            <a:ext cx="6858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952880"/>
            <a:ext cx="6858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4952880"/>
            <a:ext cx="6858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960" y="1041480"/>
            <a:ext cx="1879560" cy="187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03440" y="1041480"/>
            <a:ext cx="1879920" cy="187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299280" y="1041480"/>
            <a:ext cx="1879560" cy="187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93760" y="3936960"/>
            <a:ext cx="1879560" cy="187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299280" y="3936960"/>
            <a:ext cx="1879560" cy="187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28600" y="4952880"/>
            <a:ext cx="6858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65160" y="609480"/>
            <a:ext cx="72136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040" y="2112840"/>
            <a:ext cx="8305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1. </a:t>
            </a:r>
            <a:r>
              <a:rPr b="1" i="1" lang="en-US" sz="3100" spc="-1" strike="noStrike">
                <a:solidFill>
                  <a:srgbClr val="febf02"/>
                </a:solidFill>
                <a:latin typeface="Arial"/>
              </a:rPr>
              <a:t>Compressi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2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Multiresolution edi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3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Level-of-detail contro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4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Progressive transmission and render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9800" y="2146320"/>
            <a:ext cx="3098880" cy="58428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4191120"/>
            <a:ext cx="739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70,000 faces                          ~11,000 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65360" y="5118120"/>
            <a:ext cx="4013280" cy="73656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ight error bou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971800"/>
            <a:ext cx="91440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149640" cy="314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84880" y="990720"/>
            <a:ext cx="3149640" cy="314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732840" y="207324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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65160" y="609480"/>
            <a:ext cx="7213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040" y="2112840"/>
            <a:ext cx="8305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1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2.</a:t>
            </a: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3100" spc="-1" strike="noStrike">
                <a:solidFill>
                  <a:srgbClr val="fe9b03"/>
                </a:solidFill>
                <a:latin typeface="Arial"/>
              </a:rPr>
              <a:t>Multiresolution edi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3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Level-of-detail contro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afd00"/>
                </a:solidFill>
                <a:latin typeface="Arial"/>
              </a:rPr>
              <a:t>4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Progressive transmission and render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3840" y="2832120"/>
            <a:ext cx="4927320" cy="50796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38:32Z</dcterms:created>
  <dc:creator>Matthias Eck</dc:creator>
  <dc:description/>
  <dc:language>en-US</dc:language>
  <cp:lastModifiedBy>Hugues Hoppe</cp:lastModifiedBy>
  <cp:lastPrinted>1995-08-15T21:08:27Z</cp:lastPrinted>
  <dcterms:modified xsi:type="dcterms:W3CDTF">1997-01-23T01:18:57Z</dcterms:modified>
  <cp:revision>4</cp:revision>
  <dc:subject/>
  <dc:title>Multiresolution Analysis of  Arbitrary Meshes</dc:title>
</cp:coreProperties>
</file>