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F3A-703A-4B5C-B746-B08B4D4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5160" y="410544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C7B-AB11-4C5D-9F69-676BD161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328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6AB-6107-4C0E-9296-E3CB5753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772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028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516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772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028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80D-0BF5-4A48-A584-DBE66813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3D2-E48E-4D58-AA54-4145CC4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BA6-D2BC-4347-9285-EFFE4F1E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256-093A-4FCB-85C3-91CCB7B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D17-A591-4562-9FB9-6872972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8600" y="786960"/>
            <a:ext cx="72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926-1A8E-458E-AB56-58B83BE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DF6-AEA3-4D94-892E-2D8ECC5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328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35E-EE08-43B7-8841-4460FE9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FF7-710E-4518-A1DB-51560BB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2A58-C557-4CFA-92FC-72FD7C4E2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Click to edit the outline text format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1" marL="4021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econd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754200" indent="-2509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Third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3" marL="12067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Four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4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Fif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5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ix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6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even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resolution Analysis of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bitrary Mesh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95160" y="2717280"/>
            <a:ext cx="776304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9b03"/>
                </a:solidFill>
                <a:latin typeface="Arial"/>
              </a:rPr>
              <a:t>Matthias Eck</a:t>
            </a:r>
            <a:endParaRPr b="1" i="1" lang="en-US" sz="32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joint with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9b03"/>
                </a:solidFill>
                <a:latin typeface="Arial"/>
              </a:rPr>
              <a:t>Tony DeRose, Tom Duchamp, Hugues Hoppe,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9b03"/>
                </a:solidFill>
                <a:latin typeface="Arial"/>
              </a:rPr>
              <a:t>Michael Lounsbery and Werner Stuetzle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9200" y="5745240"/>
            <a:ext cx="66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. of Darmstadt , U. of Washington ,  Microsoft , Al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2133360" y="1955880"/>
            <a:ext cx="68580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1955880"/>
            <a:ext cx="68580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28840" y="609480"/>
            <a:ext cx="2667240" cy="266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3360" y="2874960"/>
            <a:ext cx="2763720" cy="2763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48360" y="2874960"/>
            <a:ext cx="2763720" cy="2763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3. 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3840" y="3517920"/>
            <a:ext cx="5232240" cy="50796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4280" y="3048120"/>
            <a:ext cx="233676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03440" y="3048120"/>
            <a:ext cx="233712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222960" y="3048120"/>
            <a:ext cx="233676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403440" y="609480"/>
            <a:ext cx="233712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13080" y="5600880"/>
            <a:ext cx="4317840" cy="66024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 visual discontinu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4.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800" y="4127400"/>
            <a:ext cx="8204400" cy="66060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65520" y="2717640"/>
            <a:ext cx="2108160" cy="210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70320" y="2070000"/>
            <a:ext cx="2070000" cy="207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66760" y="838080"/>
            <a:ext cx="2362320" cy="6858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se shape M </a:t>
            </a:r>
            <a:r>
              <a:rPr b="1" lang="en-US" sz="28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5486400"/>
            <a:ext cx="2057400" cy="5335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2082960" cy="2082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80160" y="3403440"/>
            <a:ext cx="2108160" cy="210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2. Our contrib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2. Our contrib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8600" y="60948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Previous work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4800" y="1803240"/>
            <a:ext cx="7915320" cy="4445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Lounsbery, DeRose, Warren 1993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s general framework for M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ds wavelet analysis to surfaces of arbitrary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Schroeder, Sweldens 1995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ilar work on sphe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1880" y="736560"/>
            <a:ext cx="8220240" cy="2082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However ...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put surface must be parametrized over a simple 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domain mesh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57320" y="3301920"/>
            <a:ext cx="2297160" cy="2490840"/>
            <a:chOff x="1057320" y="3301920"/>
            <a:chExt cx="2297160" cy="2490840"/>
          </a:xfrm>
        </p:grpSpPr>
        <p:sp>
          <p:nvSpPr>
            <p:cNvPr id="107" name=""/>
            <p:cNvSpPr/>
            <p:nvPr/>
          </p:nvSpPr>
          <p:spPr>
            <a:xfrm>
              <a:off x="1057320" y="3301920"/>
              <a:ext cx="1274760" cy="1716120"/>
            </a:xfrm>
            <a:custGeom>
              <a:avLst/>
              <a:gdLst/>
              <a:ahLst/>
              <a:rect l="l" t="t" r="r" b="b"/>
              <a:pathLst>
                <a:path w="803" h="1081">
                  <a:moveTo>
                    <a:pt x="785" y="0"/>
                  </a:moveTo>
                  <a:lnTo>
                    <a:pt x="0" y="681"/>
                  </a:lnTo>
                  <a:lnTo>
                    <a:pt x="802" y="1080"/>
                  </a:lnTo>
                  <a:lnTo>
                    <a:pt x="785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3640" y="3301920"/>
              <a:ext cx="1022040" cy="1716120"/>
            </a:xfrm>
            <a:custGeom>
              <a:avLst/>
              <a:gdLst/>
              <a:ahLst/>
              <a:rect l="l" t="t" r="r" b="b"/>
              <a:pathLst>
                <a:path w="644" h="1081">
                  <a:moveTo>
                    <a:pt x="0" y="0"/>
                  </a:moveTo>
                  <a:lnTo>
                    <a:pt x="52" y="35"/>
                  </a:lnTo>
                  <a:lnTo>
                    <a:pt x="643" y="681"/>
                  </a:lnTo>
                  <a:lnTo>
                    <a:pt x="17" y="1080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7320" y="4383000"/>
              <a:ext cx="1274760" cy="1409760"/>
            </a:xfrm>
            <a:custGeom>
              <a:avLst/>
              <a:gdLst/>
              <a:ahLst/>
              <a:rect l="l" t="t" r="r" b="b"/>
              <a:pathLst>
                <a:path w="803" h="888">
                  <a:moveTo>
                    <a:pt x="0" y="0"/>
                  </a:moveTo>
                  <a:lnTo>
                    <a:pt x="767" y="887"/>
                  </a:lnTo>
                  <a:lnTo>
                    <a:pt x="802" y="399"/>
                  </a:lnTo>
                  <a:lnTo>
                    <a:pt x="0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74840" y="4383000"/>
              <a:ext cx="1079640" cy="1409760"/>
            </a:xfrm>
            <a:custGeom>
              <a:avLst/>
              <a:gdLst/>
              <a:ahLst/>
              <a:rect l="l" t="t" r="r" b="b"/>
              <a:pathLst>
                <a:path w="680" h="888">
                  <a:moveTo>
                    <a:pt x="679" y="0"/>
                  </a:moveTo>
                  <a:lnTo>
                    <a:pt x="0" y="887"/>
                  </a:lnTo>
                  <a:lnTo>
                    <a:pt x="35" y="399"/>
                  </a:lnTo>
                  <a:lnTo>
                    <a:pt x="662" y="0"/>
                  </a:lnTo>
                  <a:lnTo>
                    <a:pt x="679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5280" y="3027240"/>
            <a:ext cx="3179880" cy="315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406960" y="3749760"/>
            <a:ext cx="482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55080" y="3747960"/>
            <a:ext cx="9349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4419720"/>
            <a:ext cx="10670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9120" y="3749760"/>
            <a:ext cx="38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5160" y="520560"/>
            <a:ext cx="721368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The problem ...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1080" y="1650960"/>
            <a:ext cx="7521840" cy="1625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hes are typically given as collection of triangles, thus 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MRA algorithms cannot directly be applied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4760" y="2336400"/>
            <a:ext cx="6379920" cy="2616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otivation and application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Our contribution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Result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Summary and future work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781680" y="2952720"/>
            <a:ext cx="2336760" cy="1041480"/>
          </a:xfrm>
          <a:custGeom>
            <a:avLst/>
            <a:gdLst>
              <a:gd name="textAreaLeft" fmla="*/ 86400 w 2336760"/>
              <a:gd name="textAreaRight" fmla="*/ 2250360 w 2336760"/>
              <a:gd name="textAreaTop" fmla="*/ 38520 h 1041480"/>
              <a:gd name="textAreaBottom" fmla="*/ 831960 h 1041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’m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ametrized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... and our sol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22360"/>
            <a:ext cx="8610840" cy="200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1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mple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domain me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715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5480" y="3784680"/>
            <a:ext cx="278136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... and our sol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22360"/>
            <a:ext cx="8610840" cy="200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1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mple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domain me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2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parametrization </a:t>
            </a:r>
            <a:r>
              <a:rPr b="1" i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1" i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81480"/>
            <a:ext cx="13716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419720"/>
            <a:ext cx="76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715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5480" y="3784680"/>
            <a:ext cx="278136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888240" y="3103560"/>
            <a:ext cx="1660320" cy="923760"/>
          </a:xfrm>
          <a:custGeom>
            <a:avLst/>
            <a:gdLst>
              <a:gd name="textAreaLeft" fmla="*/ 61200 w 1660320"/>
              <a:gd name="textAreaRight" fmla="*/ 1599120 w 1660320"/>
              <a:gd name="textAreaTop" fmla="*/ 34200 h 923760"/>
              <a:gd name="textAreaBottom" fmla="*/ 738000 h 923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RA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e9b03"/>
                </a:solidFill>
                <a:latin typeface="Arial"/>
              </a:rPr>
              <a:t>step1:</a:t>
            </a:r>
            <a:br>
              <a:rPr sz="3700"/>
            </a:b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onstruction of domain mesh 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33600" y="2590560"/>
            <a:ext cx="6076800" cy="1904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7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Main idea: 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ti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M  into triangular regions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main mesh 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65280" y="4754520"/>
            <a:ext cx="8384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33600" y="1879560"/>
            <a:ext cx="25686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9072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0068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main mesh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1879560"/>
            <a:ext cx="254016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55680" y="1879560"/>
            <a:ext cx="25398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2590920" y="3200400"/>
            <a:ext cx="10666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200400"/>
            <a:ext cx="10666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4094280"/>
            <a:ext cx="2897280" cy="458640"/>
          </a:xfrm>
          <a:custGeom>
            <a:avLst/>
            <a:gdLst/>
            <a:ahLst/>
            <a:rect l="l" t="t" r="r" b="b"/>
            <a:pathLst>
              <a:path w="1825" h="289">
                <a:moveTo>
                  <a:pt x="0" y="0"/>
                </a:moveTo>
                <a:lnTo>
                  <a:pt x="0" y="288"/>
                </a:lnTo>
                <a:lnTo>
                  <a:pt x="1824" y="288"/>
                </a:lnTo>
                <a:lnTo>
                  <a:pt x="1824" y="0"/>
                </a:lnTo>
                <a:lnTo>
                  <a:pt x="1824" y="0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761760"/>
            <a:ext cx="72136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How to get partition ?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6560" y="1981080"/>
            <a:ext cx="8210880" cy="396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ur require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logical type of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 topological type of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umber of triangular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and straight 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9b03"/>
                </a:solidFill>
                <a:latin typeface="Arial"/>
              </a:rPr>
              <a:t>fully automatic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52680" y="4330800"/>
            <a:ext cx="2438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tru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Voronoi-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diagra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330800"/>
            <a:ext cx="2438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tru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Delaunay-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trian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00480" y="1873080"/>
            <a:ext cx="2544840" cy="2544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31080" y="1879560"/>
            <a:ext cx="256824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5680" y="1879560"/>
            <a:ext cx="25398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2662200" y="318132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724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6160" y="317808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e9b03"/>
                </a:solidFill>
                <a:latin typeface="Arial"/>
              </a:rPr>
              <a:t>step 2:</a:t>
            </a:r>
            <a:br>
              <a:rPr sz="3700"/>
            </a:b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onstruction of parametriza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43040" y="4170240"/>
            <a:ext cx="5857920" cy="944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ametrization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200" y="2035080"/>
            <a:ext cx="788508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p each face of domain mesh to corresponding triangular reg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cal maps agree on 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8960" y="447048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46840" y="1371600"/>
            <a:ext cx="3660480" cy="364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2565360" y="56959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cal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33440" y="1371600"/>
            <a:ext cx="3657600" cy="365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752480" y="4532400"/>
            <a:ext cx="457380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0"/>
                </a:moveTo>
                <a:lnTo>
                  <a:pt x="0" y="624"/>
                </a:lnTo>
                <a:lnTo>
                  <a:pt x="2880" y="624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How to map locally?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6800" y="1828800"/>
            <a:ext cx="761040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Requirements: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xed boundary cond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distor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Best choice: 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harmonic map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-known from differential geome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ing the metric distor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Motiva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59984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bf02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roblem: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lex shapes = complex meshes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17640" y="2793960"/>
            <a:ext cx="3708720" cy="37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356000" y="2298600"/>
            <a:ext cx="3403800" cy="736560"/>
          </a:xfrm>
          <a:custGeom>
            <a:avLst/>
            <a:gdLst>
              <a:gd name="textAreaLeft" fmla="*/ 126000 w 3403800"/>
              <a:gd name="textAreaRight" fmla="*/ 3277800 w 3403800"/>
              <a:gd name="textAreaTop" fmla="*/ 27000 h 736560"/>
              <a:gd name="textAreaBottom" fmla="*/ 588240 h 736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1" i="1" lang="en-US" sz="2400" spc="-1" strike="noStrike">
                <a:solidFill>
                  <a:srgbClr val="d93192"/>
                </a:solidFill>
                <a:latin typeface="Arial"/>
              </a:rPr>
              <a:t>70,000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ces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8480" y="1987560"/>
            <a:ext cx="4429080" cy="315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7600" y="1998720"/>
            <a:ext cx="4000680" cy="315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5160" y="865080"/>
            <a:ext cx="721368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local map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640" y="5411880"/>
            <a:ext cx="26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ar tri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9080" y="5430960"/>
            <a:ext cx="300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iangular re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346560" y="4169880"/>
            <a:ext cx="1966680" cy="180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4. Result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4. Result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375240" y="3784680"/>
            <a:ext cx="2210040" cy="220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76520" y="3784680"/>
            <a:ext cx="2190960" cy="2190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96880" y="3784680"/>
            <a:ext cx="2184480" cy="2184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463920" y="888840"/>
            <a:ext cx="221616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3038760" y="3156120"/>
            <a:ext cx="277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 min. , 70,000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67320" y="6081840"/>
            <a:ext cx="133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2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8560" y="60818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2.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36560" y="60800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6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1.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352680" y="368280"/>
            <a:ext cx="2438640" cy="243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961360" y="2851200"/>
            <a:ext cx="29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min. , 100,000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6880" y="6081840"/>
            <a:ext cx="133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9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8560" y="60818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2.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6320" y="60800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7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1.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79360" y="3479760"/>
            <a:ext cx="248940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75240" y="3479760"/>
            <a:ext cx="248940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327480" y="3479760"/>
            <a:ext cx="248904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6336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6304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ven: An arbitrary mesh 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construct: a simple domain mesh and an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parametrization for M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MRA to be appl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39880" indent="-279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ght error bound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in other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8600" y="609480"/>
            <a:ext cx="72133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5. Future work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6920" y="1844640"/>
            <a:ext cx="818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Other potential applications of parametriz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6800" y="2514600"/>
            <a:ext cx="7610400" cy="2743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xture mapping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ite element analysi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urface morphing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-spline fitting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2463840" cy="24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08560" y="3556080"/>
            <a:ext cx="2489400" cy="248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62080" y="6111720"/>
            <a:ext cx="26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oximating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94360" y="6110280"/>
            <a:ext cx="271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- spline control me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2240" y="276120"/>
            <a:ext cx="3255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 - spline 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325680" y="965160"/>
            <a:ext cx="2492640" cy="24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33440" y="1294920"/>
            <a:ext cx="6477120" cy="438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7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Difficulties: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          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ultiresolution analysi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       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25780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2920" y="1434960"/>
            <a:ext cx="8318160" cy="398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representation of mesh M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base shape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 0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+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sum of local correction terms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wavelet terms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457200"/>
            <a:ext cx="2362320" cy="6858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base shap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791320"/>
            <a:ext cx="2057400" cy="5331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43400" y="4876920"/>
                <a:ext cx="12621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··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104148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03440" y="1041480"/>
            <a:ext cx="187992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99280" y="104148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93760" y="393696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299280" y="393696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860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9800" y="2146320"/>
            <a:ext cx="3098880" cy="58428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4191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70,000 faces                          ~11,000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65360" y="5118120"/>
            <a:ext cx="4013280" cy="73656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ight error b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971800"/>
            <a:ext cx="9144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149640" cy="314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84880" y="990720"/>
            <a:ext cx="3149640" cy="314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732840" y="207324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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2.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3840" y="2832120"/>
            <a:ext cx="4927320" cy="50796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8:32Z</dcterms:created>
  <dc:creator>Matthias Eck</dc:creator>
  <dc:description/>
  <dc:language>en-US</dc:language>
  <cp:lastModifiedBy>Hugues Hoppe</cp:lastModifiedBy>
  <cp:lastPrinted>1995-08-15T21:08:27Z</cp:lastPrinted>
  <dcterms:modified xsi:type="dcterms:W3CDTF">1997-01-23T01:18:57Z</dcterms:modified>
  <cp:revision>4</cp:revision>
  <dc:subject/>
  <dc:title>Multiresolution Analysis of  Arbitrary Meshes</dc:title>
</cp:coreProperties>
</file>