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22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3228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63600" y="-1440"/>
            <a:ext cx="303228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-360" y="8814960"/>
            <a:ext cx="303228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3963600" y="8814960"/>
            <a:ext cx="303228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79B7514A-1676-400D-90A3-9F25FDA97F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930240" y="4406400"/>
            <a:ext cx="5135760" cy="4178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Img"/>
          </p:nvPr>
        </p:nvSpPr>
        <p:spPr>
          <a:xfrm>
            <a:off x="1186920" y="700200"/>
            <a:ext cx="462132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ffff0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5fff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0240" y="4406400"/>
            <a:ext cx="5135760" cy="417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far, just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nsider attribu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h with color at ver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7280" y="70020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30240" y="4406400"/>
            <a:ext cx="513576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mputer graphics, geometric models are commonly represented as triangle me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hown here, a mesh consists of a set of triangular faces pasted together along their edges and meeting at a common set of ver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traditional representation, a mesh is represented as a set of vertices containing xyz coordinates, and a set of faces containing indices referring back to the ver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ides geometry, other appearance attributes are often present in a mesh, such as vertex normals, vertex colors, material attributes, and texture maps.  These appearance attributes are also associated with the vertices and faces of the me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0240" y="4406400"/>
            <a:ext cx="5135760" cy="417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shapes of 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discontinuities rather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16D6-854C-4F6B-9D30-CE6C65B0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2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34FA-9D12-46E2-B872-FA7A49C1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20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208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9B99-E55E-487B-8A9E-8D7EF0A0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452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288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452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288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DB9-B455-4EEC-9706-55090E6A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1D07-F567-45C8-804D-07C227C6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8BE8-DE5D-414A-9079-E3D8DA13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3713-6975-4AB3-88FA-A6D4D727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208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035A-CD4A-4E83-A08B-78381E6F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F1CA-A458-4C16-B968-45A2B91D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304560"/>
            <a:ext cx="88394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F5F3-F347-423C-A202-B0B597D5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208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7B22-F608-4E63-BE33-4B2B12A5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E78B-A6C7-4073-8746-5E9DD4A8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20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208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88E4-3654-4807-9D5E-441D554E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20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A7FE-BB68-4A50-8FFF-129DCB6A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42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68A2-54BF-463B-B762-FB89CCFE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20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208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F017-89FF-475A-892D-CF716295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452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88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452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88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EBCF-2447-4C17-AC73-756572C2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62A-EA55-4065-A27A-E50893E8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208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5E10-BB7F-4353-B838-F93E6CE0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A20A-4208-4F51-A131-FB610368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304560"/>
            <a:ext cx="88394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F44-5401-4175-8C0E-71852EB3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208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C10-49F0-4C38-8C58-07C4ADE2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20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208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EAC4-6CEF-4E83-B640-0D8DFF0C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20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3CC-1DCB-4185-801F-377FF768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44FB-6006-4A24-9AD8-E9A61DA890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94920"/>
            <a:ext cx="8305920" cy="4876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343080">
              <a:spcBef>
                <a:spcPts val="7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57440" indent="-285840">
              <a:spcBef>
                <a:spcPts val="7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6859-39F6-4D42-9EC4-6A46CDCAD0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75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ffff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buClr>
                <a:srgbClr val="fafd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buClr>
                <a:srgbClr val="fafd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fff0"/>
                </a:solidFill>
                <a:latin typeface="Arial"/>
              </a:rPr>
              <a:t>New quadric metric for simplifying meshes with appearance attributes</a:t>
            </a:r>
            <a:endParaRPr b="0" lang="en-US" sz="38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8229600" cy="274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gues Hop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Research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EE Visualization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978360" y="2647800"/>
            <a:ext cx="81000" cy="81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46760" y="2338560"/>
            <a:ext cx="23004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76320" y="3438360"/>
            <a:ext cx="4276800" cy="1924200"/>
          </a:xfrm>
          <a:custGeom>
            <a:avLst/>
            <a:gdLst/>
            <a:ahLst/>
            <a:rect l="l" t="t" r="r" b="b"/>
            <a:pathLst>
              <a:path w="2694" h="1212">
                <a:moveTo>
                  <a:pt x="1872" y="0"/>
                </a:moveTo>
                <a:lnTo>
                  <a:pt x="0" y="822"/>
                </a:lnTo>
                <a:lnTo>
                  <a:pt x="2694" y="1212"/>
                </a:lnTo>
                <a:lnTo>
                  <a:pt x="1872" y="0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100000">
                <a:srgbClr val="ff0000"/>
              </a:gs>
            </a:gsLst>
            <a:lin ang="108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510552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QEM for attributes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33440" y="2252520"/>
            <a:ext cx="13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7280" y="444816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72920" y="502452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28040" y="316692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43440" y="1272240"/>
            <a:ext cx="1243080" cy="520560"/>
          </a:xfrm>
          <a:solidFill>
            <a:srgbClr val="3333cc"/>
          </a:solidFill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29400" y="1934280"/>
            <a:ext cx="1280880" cy="520560"/>
          </a:xfrm>
          <a:solidFill>
            <a:srgbClr val="3333cc"/>
          </a:solidFill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98960" y="348840"/>
            <a:ext cx="41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Garland &amp; Heckbert 1998]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06040" y="125496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05320" y="193428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398760" y="2689200"/>
            <a:ext cx="5561280" cy="3469320"/>
            <a:chOff x="3398760" y="2689200"/>
            <a:chExt cx="5561280" cy="3469320"/>
          </a:xfrm>
        </p:grpSpPr>
        <p:sp>
          <p:nvSpPr>
            <p:cNvPr id="296" name=""/>
            <p:cNvSpPr/>
            <p:nvPr/>
          </p:nvSpPr>
          <p:spPr>
            <a:xfrm>
              <a:off x="4878000" y="5637960"/>
              <a:ext cx="408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Arial"/>
                </a:rPr>
                <a:t>not geometrically closes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98760" y="4456080"/>
              <a:ext cx="1505160" cy="1481040"/>
            </a:xfrm>
            <a:custGeom>
              <a:avLst/>
              <a:gdLst/>
              <a:ahLst/>
              <a:rect l="l" t="t" r="r" b="b"/>
              <a:pathLst>
                <a:path w="948" h="933">
                  <a:moveTo>
                    <a:pt x="948" y="933"/>
                  </a:moveTo>
                  <a:cubicBezTo>
                    <a:pt x="929" y="925"/>
                    <a:pt x="728" y="903"/>
                    <a:pt x="634" y="800"/>
                  </a:cubicBezTo>
                  <a:cubicBezTo>
                    <a:pt x="540" y="697"/>
                    <a:pt x="490" y="450"/>
                    <a:pt x="384" y="317"/>
                  </a:cubicBezTo>
                  <a:cubicBezTo>
                    <a:pt x="278" y="184"/>
                    <a:pt x="80" y="66"/>
                    <a:pt x="0" y="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4016520" y="2689200"/>
              <a:ext cx="312120" cy="1828800"/>
              <a:chOff x="4016520" y="2689200"/>
              <a:chExt cx="312120" cy="1828800"/>
            </a:xfrm>
          </p:grpSpPr>
          <p:sp>
            <p:nvSpPr>
              <p:cNvPr id="299" name=""/>
              <p:cNvSpPr/>
              <p:nvPr/>
            </p:nvSpPr>
            <p:spPr>
              <a:xfrm>
                <a:off x="4016520" y="2689200"/>
                <a:ext cx="75960" cy="18288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16040" y="4295520"/>
                <a:ext cx="12600" cy="22248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4092480" y="4298400"/>
                <a:ext cx="221760" cy="12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2" name=""/>
          <p:cNvGrpSpPr/>
          <p:nvPr/>
        </p:nvGrpSpPr>
        <p:grpSpPr>
          <a:xfrm>
            <a:off x="327960" y="2507400"/>
            <a:ext cx="3688200" cy="3142440"/>
            <a:chOff x="327960" y="2507400"/>
            <a:chExt cx="3688200" cy="3142440"/>
          </a:xfrm>
        </p:grpSpPr>
        <p:sp>
          <p:nvSpPr>
            <p:cNvPr id="303" name=""/>
            <p:cNvSpPr/>
            <p:nvPr/>
          </p:nvSpPr>
          <p:spPr>
            <a:xfrm flipH="1">
              <a:off x="3333240" y="2689200"/>
              <a:ext cx="682920" cy="171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174800">
              <a:off x="3209400" y="2505240"/>
              <a:ext cx="304920" cy="18367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7880 h 1836720"/>
                <a:gd name="textAreaBottom" fmla="*/ 1788840 h 18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4500"/>
                  </a:lnTo>
                  <a:cubicBezTo>
                    <a:pt x="10800" y="5400"/>
                    <a:pt x="5400" y="6300"/>
                    <a:pt x="0" y="6300"/>
                  </a:cubicBezTo>
                  <a:cubicBezTo>
                    <a:pt x="5400" y="6300"/>
                    <a:pt x="10800" y="7200"/>
                    <a:pt x="10800" y="81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960" y="2532600"/>
              <a:ext cx="301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rojection in</a:t>
              </a:r>
              <a:r>
                <a:rPr b="0" lang="en-US" sz="2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1" lang="en-US" sz="3200" spc="-1" strike="noStrike" baseline="30000">
                  <a:solidFill>
                    <a:srgbClr val="fafd00"/>
                  </a:solidFill>
                  <a:latin typeface="Arial"/>
                </a:rPr>
                <a:t>3+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02040" y="5129280"/>
              <a:ext cx="163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v’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=(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’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’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59000" y="4476600"/>
              <a:ext cx="149400" cy="743040"/>
            </a:xfrm>
            <a:custGeom>
              <a:avLst/>
              <a:gdLst/>
              <a:ahLst/>
              <a:rect l="l" t="t" r="r" b="b"/>
              <a:pathLst>
                <a:path w="94" h="468">
                  <a:moveTo>
                    <a:pt x="35" y="468"/>
                  </a:moveTo>
                  <a:cubicBezTo>
                    <a:pt x="31" y="424"/>
                    <a:pt x="0" y="282"/>
                    <a:pt x="10" y="204"/>
                  </a:cubicBezTo>
                  <a:cubicBezTo>
                    <a:pt x="20" y="126"/>
                    <a:pt x="77" y="42"/>
                    <a:pt x="94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734120" y="5958000"/>
            <a:ext cx="26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= |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|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Resulting quadric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17600" y="2666880"/>
                <a:ext cx="7929360" cy="20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  <m:e/>
                            <m:e/>
                          </m:mr>
                          <m:mr>
                            <m:e/>
                            <m:e>
                              <m:r>
                                <m:t xml:space="preserve">A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</m:e>
                          </m:mr>
                          <m:mr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3871800" y="5310720"/>
            <a:ext cx="457344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58" y="4588"/>
                </a:moveTo>
                <a:lnTo>
                  <a:pt x="-2498" y="4588"/>
                </a:lnTo>
                <a:lnTo>
                  <a:pt x="-2498" y="-23703"/>
                </a:lnTo>
                <a:lnTo>
                  <a:pt x="-1042" y="-5590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nse (3+m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+m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227240" y="1295280"/>
                <a:ext cx="25588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</m:e>
                          </m:mr>
                          <m:mr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4112640" y="5881680"/>
            <a:ext cx="308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quadratic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Time&amp;space complexity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33520" y="1727280"/>
          <a:ext cx="6572160" cy="4064040"/>
        </p:xfrm>
        <a:graphic>
          <a:graphicData uri="http://schemas.openxmlformats.org/drawingml/2006/table">
            <a:tbl>
              <a:tblPr/>
              <a:tblGrid>
                <a:gridCol w="3219480"/>
                <a:gridCol w="1295280"/>
                <a:gridCol w="20574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G&amp;H98]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omet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co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norma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texture coor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gene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(4+</a:t>
                      </a:r>
                      <a:r>
                        <a:rPr b="0" i="1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)(5+</a:t>
                      </a:r>
                      <a:r>
                        <a:rPr b="0" i="1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)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576760" y="1398600"/>
            <a:ext cx="23040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87600" y="2394000"/>
            <a:ext cx="4276800" cy="1923840"/>
          </a:xfrm>
          <a:custGeom>
            <a:avLst/>
            <a:gdLst/>
            <a:ahLst/>
            <a:rect l="l" t="t" r="r" b="b"/>
            <a:pathLst>
              <a:path w="2694" h="1212">
                <a:moveTo>
                  <a:pt x="1872" y="0"/>
                </a:moveTo>
                <a:lnTo>
                  <a:pt x="0" y="822"/>
                </a:lnTo>
                <a:lnTo>
                  <a:pt x="2694" y="1212"/>
                </a:lnTo>
                <a:lnTo>
                  <a:pt x="1872" y="0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100000">
                <a:srgbClr val="ff0000"/>
              </a:gs>
            </a:gsLst>
            <a:lin ang="108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Contribution: new quadric metric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63800" y="1312920"/>
            <a:ext cx="13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48560" y="340344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83840" y="397980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39320" y="212256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00440" y="1488240"/>
            <a:ext cx="28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 in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lang="en-US" sz="3200" spc="-1" strike="noStrike" baseline="30000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38600" y="1693800"/>
            <a:ext cx="76320" cy="1828800"/>
          </a:xfrm>
          <a:prstGeom prst="line">
            <a:avLst/>
          </a:prstGeom>
          <a:ln w="19080">
            <a:solidFill>
              <a:srgbClr val="fffff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38840" y="3300480"/>
            <a:ext cx="12600" cy="222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714920" y="3303360"/>
            <a:ext cx="222120" cy="12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21469200">
            <a:off x="4130280" y="1693800"/>
            <a:ext cx="304920" cy="183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880 h 1836720"/>
              <a:gd name="textAreaBottom" fmla="*/ 1788840 h 18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4500"/>
                </a:lnTo>
                <a:cubicBezTo>
                  <a:pt x="10800" y="5400"/>
                  <a:pt x="5400" y="6300"/>
                  <a:pt x="0" y="6300"/>
                </a:cubicBezTo>
                <a:cubicBezTo>
                  <a:pt x="5400" y="6300"/>
                  <a:pt x="10800" y="7200"/>
                  <a:pt x="10800" y="81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968920" y="3575160"/>
            <a:ext cx="1684080" cy="960120"/>
            <a:chOff x="2968920" y="3575160"/>
            <a:chExt cx="1684080" cy="960120"/>
          </a:xfrm>
        </p:grpSpPr>
        <p:sp>
          <p:nvSpPr>
            <p:cNvPr id="329" name=""/>
            <p:cNvSpPr/>
            <p:nvPr/>
          </p:nvSpPr>
          <p:spPr>
            <a:xfrm>
              <a:off x="4091040" y="4081320"/>
              <a:ext cx="299880" cy="43776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68920" y="4014720"/>
              <a:ext cx="163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v’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=(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’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’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97160" y="3575160"/>
              <a:ext cx="555840" cy="512640"/>
            </a:xfrm>
            <a:custGeom>
              <a:avLst/>
              <a:gdLst/>
              <a:ahLst/>
              <a:rect l="l" t="t" r="r" b="b"/>
              <a:pathLst>
                <a:path w="355" h="437">
                  <a:moveTo>
                    <a:pt x="0" y="437"/>
                  </a:moveTo>
                  <a:cubicBezTo>
                    <a:pt x="22" y="389"/>
                    <a:pt x="71" y="222"/>
                    <a:pt x="130" y="149"/>
                  </a:cubicBezTo>
                  <a:cubicBezTo>
                    <a:pt x="189" y="76"/>
                    <a:pt x="308" y="31"/>
                    <a:pt x="355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478160" y="4775040"/>
            <a:ext cx="6260040" cy="1112760"/>
            <a:chOff x="1478160" y="4775040"/>
            <a:chExt cx="6260040" cy="1112760"/>
          </a:xfrm>
        </p:grpSpPr>
        <p:sp>
          <p:nvSpPr>
            <p:cNvPr id="333" name=""/>
            <p:cNvSpPr/>
            <p:nvPr/>
          </p:nvSpPr>
          <p:spPr>
            <a:xfrm>
              <a:off x="6595920" y="5429160"/>
              <a:ext cx="300240" cy="4381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68880" y="5445000"/>
              <a:ext cx="230400" cy="42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78160" y="4775040"/>
              <a:ext cx="626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 =  geometric error  +  attribute erro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86120" y="5367240"/>
              <a:ext cx="529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       |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-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’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Arial"/>
                </a:rPr>
                <a:t>2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+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 |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-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’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405160" y="4800600"/>
            <a:ext cx="2592360" cy="1219320"/>
          </a:xfrm>
          <a:prstGeom prst="rect">
            <a:avLst/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Geometric error term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768240" y="2973240"/>
                <a:ext cx="7683480" cy="274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⋮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⋮</m:t>
                                    </m:r>
                                  </m:e>
                                  <m:e>
                                    <m:r>
                                      <m:t xml:space="preserve">⋱</m:t>
                                    </m:r>
                                  </m:e>
                                  <m:e>
                                    <m:r>
                                      <m:t xml:space="preserve">⋮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dn</m:t>
                              </m:r>
                              <m:r>
                                <m:t xml:space="preserve">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⋮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214920" y="1295280"/>
            <a:ext cx="85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ro-extended version of [Garland &amp; Heckbert 1997]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2747880" y="2404800"/>
            <a:ext cx="228600" cy="828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28720"/>
              <a:gd name="textAreaBottom" fmla="*/ 807120 h 8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5400000">
            <a:off x="4381200" y="198108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9040" y="2133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05600" y="2133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324480" y="5315040"/>
            <a:ext cx="300240" cy="4381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19600" y="3967200"/>
            <a:ext cx="299880" cy="4381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97440" y="5330880"/>
            <a:ext cx="23040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05320" y="1284120"/>
            <a:ext cx="23040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16160" y="2279520"/>
            <a:ext cx="4276800" cy="1924200"/>
          </a:xfrm>
          <a:custGeom>
            <a:avLst/>
            <a:gdLst/>
            <a:ahLst/>
            <a:rect l="l" t="t" r="r" b="b"/>
            <a:pathLst>
              <a:path w="2694" h="1212">
                <a:moveTo>
                  <a:pt x="1872" y="0"/>
                </a:moveTo>
                <a:lnTo>
                  <a:pt x="0" y="822"/>
                </a:lnTo>
                <a:lnTo>
                  <a:pt x="2694" y="1212"/>
                </a:lnTo>
                <a:lnTo>
                  <a:pt x="1872" y="0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100000">
                <a:srgbClr val="ff0000"/>
              </a:gs>
            </a:gsLst>
            <a:lin ang="108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New quadric metric (cont’d)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92360" y="1198440"/>
            <a:ext cx="13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76760" y="328932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12400" y="386568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67880" y="200808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67160" y="1579680"/>
            <a:ext cx="76320" cy="1828800"/>
          </a:xfrm>
          <a:prstGeom prst="line">
            <a:avLst/>
          </a:prstGeom>
          <a:ln w="19080">
            <a:solidFill>
              <a:srgbClr val="fffff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67400" y="3186000"/>
            <a:ext cx="12600" cy="222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443480" y="3188880"/>
            <a:ext cx="222120" cy="12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2200" y="390060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25720" y="3460680"/>
            <a:ext cx="555840" cy="513000"/>
          </a:xfrm>
          <a:custGeom>
            <a:avLst/>
            <a:gdLst/>
            <a:ahLst/>
            <a:rect l="l" t="t" r="r" b="b"/>
            <a:pathLst>
              <a:path w="355" h="437">
                <a:moveTo>
                  <a:pt x="0" y="437"/>
                </a:moveTo>
                <a:cubicBezTo>
                  <a:pt x="22" y="389"/>
                  <a:pt x="71" y="222"/>
                  <a:pt x="130" y="149"/>
                </a:cubicBezTo>
                <a:cubicBezTo>
                  <a:pt x="189" y="76"/>
                  <a:pt x="308" y="31"/>
                  <a:pt x="355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06720" y="4660920"/>
            <a:ext cx="626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=  geometric error  +  attribute err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714680" y="5253120"/>
            <a:ext cx="52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|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|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08280" y="6085800"/>
            <a:ext cx="4492080" cy="48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36" y="4508"/>
                </a:moveTo>
                <a:lnTo>
                  <a:pt x="22552" y="4508"/>
                </a:lnTo>
                <a:lnTo>
                  <a:pt x="22552" y="-1690"/>
                </a:lnTo>
                <a:lnTo>
                  <a:pt x="22382" y="-11831"/>
                </a:lnTo>
              </a:path>
            </a:pathLst>
          </a:custGeom>
          <a:solidFill>
            <a:srgbClr val="3333cc"/>
          </a:solidFill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’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) is linear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still quadra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05520" y="4686480"/>
            <a:ext cx="2438280" cy="1218960"/>
          </a:xfrm>
          <a:prstGeom prst="rect">
            <a:avLst/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791240" y="1486080"/>
            <a:ext cx="448920" cy="552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73520" y="1486080"/>
            <a:ext cx="449280" cy="552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Predicted attribute value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286000" y="2803680"/>
                <a:ext cx="4613400" cy="24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/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/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/>
                            <m:e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530280" y="3750480"/>
            <a:ext cx="1587240" cy="861480"/>
          </a:xfrm>
          <a:solidFill>
            <a:srgbClr val="3333cc"/>
          </a:solidFill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sitions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n 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9400" y="5217120"/>
            <a:ext cx="2041560" cy="520560"/>
          </a:xfrm>
          <a:solidFill>
            <a:srgbClr val="3333cc"/>
          </a:solidFill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ace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65520" y="5690520"/>
            <a:ext cx="285552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70" y="4508"/>
                </a:moveTo>
                <a:lnTo>
                  <a:pt x="22906" y="4508"/>
                </a:lnTo>
                <a:lnTo>
                  <a:pt x="22906" y="-24104"/>
                </a:lnTo>
                <a:lnTo>
                  <a:pt x="19629" y="-69487"/>
                </a:lnTo>
              </a:path>
            </a:pathLst>
          </a:custGeom>
          <a:solidFill>
            <a:srgbClr val="3333cc"/>
          </a:solidFill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tribute grad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72000" y="3823560"/>
            <a:ext cx="1646640" cy="861480"/>
          </a:xfrm>
          <a:solidFill>
            <a:srgbClr val="3333cc"/>
          </a:solidFill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n 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2424240" y="1434960"/>
                <a:ext cx="4271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4038480" y="2133720"/>
            <a:ext cx="990720" cy="685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29200" y="2133720"/>
            <a:ext cx="152280" cy="685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962440" y="1628640"/>
            <a:ext cx="973080" cy="581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62560" y="1628640"/>
            <a:ext cx="1459080" cy="581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Attribute error term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85800" y="3330720"/>
                <a:ext cx="7626240" cy="24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Sup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 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 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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432080" y="1538280"/>
                <a:ext cx="63435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 rot="5400000">
            <a:off x="2509560" y="2786040"/>
            <a:ext cx="228600" cy="828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28720"/>
              <a:gd name="textAreaBottom" fmla="*/ 807120 h 8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5400000">
            <a:off x="4262040" y="2872080"/>
            <a:ext cx="228600" cy="657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920 h 657000"/>
              <a:gd name="textAreaBottom" fmla="*/ 640080 h 65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1080" y="25146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79240" y="2514600"/>
            <a:ext cx="40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New quadric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136440" y="2438280"/>
                <a:ext cx="8937720" cy="25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j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mr>
                                <m:mr>
                                  <m:e>
                                    <m:r>
                                      <m:t xml:space="preserve">⋮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I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dn</m:t>
                              </m:r>
                              <m:r>
                                <m:t xml:space="preserve">+</m:t>
                              </m:r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⋮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3777840" y="5348880"/>
            <a:ext cx="380124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31" y="4588"/>
                </a:moveTo>
                <a:lnTo>
                  <a:pt x="-2278" y="4588"/>
                </a:lnTo>
                <a:lnTo>
                  <a:pt x="-2278" y="-16630"/>
                </a:lnTo>
                <a:lnTo>
                  <a:pt x="-1458" y="-39558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trix is id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227160" y="1225440"/>
                <a:ext cx="4601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3919320" y="5867280"/>
            <a:ext cx="24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inear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Time&amp;space complexity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533520" y="1727280"/>
          <a:ext cx="8172360" cy="4064040"/>
        </p:xfrm>
        <a:graphic>
          <a:graphicData uri="http://schemas.openxmlformats.org/drawingml/2006/table">
            <a:tbl>
              <a:tblPr/>
              <a:tblGrid>
                <a:gridCol w="3219480"/>
                <a:gridCol w="1295280"/>
                <a:gridCol w="2057400"/>
                <a:gridCol w="16002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G&amp;H98]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omet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co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norma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texture coor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gene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(4+</a:t>
                      </a:r>
                      <a:r>
                        <a:rPr b="0" i="1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)(5+</a:t>
                      </a:r>
                      <a:r>
                        <a:rPr b="0" i="1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)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11+4</a:t>
                      </a:r>
                      <a:r>
                        <a:rPr b="0" i="1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42960" y="1417680"/>
            <a:ext cx="2666880" cy="47736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92" name=""/>
          <p:cNvSpPr/>
          <p:nvPr/>
        </p:nvSpPr>
        <p:spPr>
          <a:xfrm>
            <a:off x="5178600" y="1365120"/>
            <a:ext cx="2197080" cy="151128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07200" y="1517760"/>
            <a:ext cx="749160" cy="12063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97560" y="1517760"/>
            <a:ext cx="749520" cy="12063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4560000">
            <a:off x="6600960" y="3056400"/>
            <a:ext cx="609480" cy="119160"/>
          </a:xfrm>
          <a:prstGeom prst="rightArrow">
            <a:avLst>
              <a:gd name="adj1" fmla="val 50000"/>
              <a:gd name="adj2" fmla="val 255764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7040000">
            <a:off x="5416560" y="3056400"/>
            <a:ext cx="609480" cy="119520"/>
          </a:xfrm>
          <a:prstGeom prst="rightArrow">
            <a:avLst>
              <a:gd name="adj1" fmla="val 50000"/>
              <a:gd name="adj2" fmla="val 254993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79880" y="1434960"/>
            <a:ext cx="1055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56120" y="3403440"/>
            <a:ext cx="2415600" cy="11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ex 1 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ex 2 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73120" y="3403440"/>
            <a:ext cx="162540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e 1 2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e 3 2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e 4 2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Triangle meshes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85680" y="4875120"/>
            <a:ext cx="527652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geome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ttribut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norm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l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texture coor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23200" y="487188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2000" y="5460840"/>
            <a:ext cx="12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Advantages of new quadric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797120"/>
            <a:ext cx="7772400" cy="3944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200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d more intuitiv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less storage  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(line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s more quickly 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(spar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00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in more accurate simpl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383640" y="1219320"/>
            <a:ext cx="37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 (79,202 fac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Results: image mesh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pic>
        <p:nvPicPr>
          <p:cNvPr id="395" name="mandrill.orig.2halves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42920" y="1219320"/>
            <a:ext cx="3208320" cy="320832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grpSp>
        <p:nvGrpSpPr>
          <p:cNvPr id="396" name=""/>
          <p:cNvGrpSpPr/>
          <p:nvPr/>
        </p:nvGrpSpPr>
        <p:grpSpPr>
          <a:xfrm>
            <a:off x="2438280" y="2529000"/>
            <a:ext cx="6559560" cy="4165560"/>
            <a:chOff x="2438280" y="2529000"/>
            <a:chExt cx="6559560" cy="4165560"/>
          </a:xfrm>
        </p:grpSpPr>
        <p:sp>
          <p:nvSpPr>
            <p:cNvPr id="397" name=""/>
            <p:cNvSpPr/>
            <p:nvPr/>
          </p:nvSpPr>
          <p:spPr>
            <a:xfrm>
              <a:off x="4573800" y="2529000"/>
              <a:ext cx="38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implified (1,000 faces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07320" y="296388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[G&amp;H98]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838920" y="2963880"/>
              <a:ext cx="21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New quadri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0" name="mandrill.gh.2halves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2438280" y="3486240"/>
              <a:ext cx="3208320" cy="320832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pic>
          <p:nvPicPr>
            <p:cNvPr id="401" name="mandrill.hh.2halves" descr=""/>
            <p:cNvPicPr/>
            <p:nvPr/>
          </p:nvPicPr>
          <p:blipFill>
            <a:blip r:embed="rId3">
              <a:lum bright="12000"/>
            </a:blip>
            <a:stretch/>
          </p:blipFill>
          <p:spPr>
            <a:xfrm>
              <a:off x="5781600" y="3486240"/>
              <a:ext cx="3208320" cy="320832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Other improvements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800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pired by [Lindstrom &amp; Turk 1998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details in pap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yless simplific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+ Q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re-define Q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me preservation</a:t>
            </a:r>
            <a:br>
              <a:rPr sz="32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linear constraint (Lagrange multipli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1066680" y="4000680"/>
            <a:ext cx="3067200" cy="55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383640" y="121932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 (135,000 fac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3800" y="2529000"/>
            <a:ext cx="38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ied (1,500 fac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26400" y="296388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G&amp;H98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61160" y="296388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sche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Results: mesh with color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pic>
        <p:nvPicPr>
          <p:cNvPr id="410" name="brian615e.orig.2halves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6320" y="1219320"/>
            <a:ext cx="3254400" cy="32544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pic>
        <p:nvPicPr>
          <p:cNvPr id="411" name="brian615e.gh.2halves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438280" y="3476520"/>
            <a:ext cx="3254400" cy="32544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pic>
        <p:nvPicPr>
          <p:cNvPr id="412" name="brian615e.hh.2halves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781600" y="3476520"/>
            <a:ext cx="3254400" cy="32544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Results: mesh with normals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520" y="1295280"/>
            <a:ext cx="2481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iginal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900,000 fac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81120" y="1692360"/>
            <a:ext cx="376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d (10,000 fac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6" name="dragon.orig" descr=""/>
          <p:cNvPicPr/>
          <p:nvPr/>
        </p:nvPicPr>
        <p:blipFill>
          <a:blip r:embed="rId1"/>
          <a:srcRect l="3270" t="0" r="1422" b="0"/>
          <a:stretch/>
        </p:blipFill>
        <p:spPr>
          <a:xfrm>
            <a:off x="50760" y="2249640"/>
            <a:ext cx="2978280" cy="312408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grpSp>
        <p:nvGrpSpPr>
          <p:cNvPr id="417" name=""/>
          <p:cNvGrpSpPr/>
          <p:nvPr/>
        </p:nvGrpSpPr>
        <p:grpSpPr>
          <a:xfrm>
            <a:off x="3105000" y="2249640"/>
            <a:ext cx="2978280" cy="3695040"/>
            <a:chOff x="3105000" y="2249640"/>
            <a:chExt cx="2978280" cy="3695040"/>
          </a:xfrm>
        </p:grpSpPr>
        <p:pic>
          <p:nvPicPr>
            <p:cNvPr id="418" name="dragon.geom" descr=""/>
            <p:cNvPicPr/>
            <p:nvPr/>
          </p:nvPicPr>
          <p:blipFill>
            <a:blip r:embed="rId2"/>
            <a:srcRect l="3270" t="0" r="1422" b="0"/>
            <a:stretch/>
          </p:blipFill>
          <p:spPr>
            <a:xfrm>
              <a:off x="3105000" y="2249640"/>
              <a:ext cx="2978280" cy="31240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419" name=""/>
            <p:cNvSpPr/>
            <p:nvPr/>
          </p:nvSpPr>
          <p:spPr>
            <a:xfrm>
              <a:off x="3106800" y="5454720"/>
              <a:ext cx="2847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Q is just geometry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943360" y="2163600"/>
            <a:ext cx="1676160" cy="1533600"/>
            <a:chOff x="2943360" y="2163600"/>
            <a:chExt cx="1676160" cy="1533600"/>
          </a:xfrm>
        </p:grpSpPr>
        <p:sp>
          <p:nvSpPr>
            <p:cNvPr id="421" name=""/>
            <p:cNvSpPr/>
            <p:nvPr/>
          </p:nvSpPr>
          <p:spPr>
            <a:xfrm>
              <a:off x="2943360" y="2603520"/>
              <a:ext cx="1676160" cy="10936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82840" y="2163600"/>
              <a:ext cx="95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afd00"/>
                  </a:solidFill>
                  <a:latin typeface="Arial"/>
                </a:rPr>
                <a:t>fuzzy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082200" y="2249640"/>
            <a:ext cx="3015360" cy="3695040"/>
            <a:chOff x="6082200" y="2249640"/>
            <a:chExt cx="3015360" cy="3695040"/>
          </a:xfrm>
        </p:grpSpPr>
        <p:pic>
          <p:nvPicPr>
            <p:cNvPr id="424" name="dragon.hh" descr=""/>
            <p:cNvPicPr/>
            <p:nvPr/>
          </p:nvPicPr>
          <p:blipFill>
            <a:blip r:embed="rId3"/>
            <a:srcRect l="3270" t="0" r="1422" b="0"/>
            <a:stretch/>
          </p:blipFill>
          <p:spPr>
            <a:xfrm>
              <a:off x="6089400" y="2249640"/>
              <a:ext cx="2978280" cy="31240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425" name=""/>
            <p:cNvSpPr/>
            <p:nvPr/>
          </p:nvSpPr>
          <p:spPr>
            <a:xfrm>
              <a:off x="6082200" y="5454720"/>
              <a:ext cx="3015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Q includes normals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012000" y="2163600"/>
            <a:ext cx="1676160" cy="1533600"/>
            <a:chOff x="6012000" y="2163600"/>
            <a:chExt cx="1676160" cy="1533600"/>
          </a:xfrm>
        </p:grpSpPr>
        <p:sp>
          <p:nvSpPr>
            <p:cNvPr id="427" name=""/>
            <p:cNvSpPr/>
            <p:nvPr/>
          </p:nvSpPr>
          <p:spPr>
            <a:xfrm>
              <a:off x="6012000" y="2603520"/>
              <a:ext cx="1676160" cy="10936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51840" y="2163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afd00"/>
                  </a:solidFill>
                  <a:latin typeface="Arial"/>
                </a:rPr>
                <a:t>sharp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Wedge attributes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27720" y="2562120"/>
            <a:ext cx="1120680" cy="11160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5598200">
            <a:off x="5475240" y="2680560"/>
            <a:ext cx="903240" cy="903240"/>
          </a:xfrm>
          <a:prstGeom prst="blockArc">
            <a:avLst>
              <a:gd name="adj1" fmla="val 12508931"/>
              <a:gd name="adj2" fmla="val 19891069"/>
              <a:gd name="adj3" fmla="val 48023"/>
            </a:avLst>
          </a:prstGeom>
          <a:solidFill>
            <a:srgbClr val="feaa2e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7003800">
            <a:off x="5558760" y="2673360"/>
            <a:ext cx="934920" cy="934920"/>
          </a:xfrm>
          <a:prstGeom prst="blockArc">
            <a:avLst>
              <a:gd name="adj1" fmla="val 11353712"/>
              <a:gd name="adj2" fmla="val 21046288"/>
              <a:gd name="adj3" fmla="val 47579"/>
            </a:avLst>
          </a:prstGeom>
          <a:solidFill>
            <a:srgbClr val="d989b8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978520" y="2011320"/>
            <a:ext cx="771480" cy="111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978520" y="3125880"/>
            <a:ext cx="1200240" cy="171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978520" y="3125880"/>
            <a:ext cx="942840" cy="1112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549400" y="3125880"/>
            <a:ext cx="428760" cy="1369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4778280" y="3125880"/>
            <a:ext cx="1200240" cy="25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07040" y="2097000"/>
            <a:ext cx="771480" cy="1028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4778280" y="2097000"/>
            <a:ext cx="428760" cy="1285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207040" y="2011320"/>
            <a:ext cx="1542960" cy="85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6749640" y="2011320"/>
            <a:ext cx="428760" cy="1285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6921360" y="3296880"/>
            <a:ext cx="257400" cy="94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5549760" y="4238640"/>
            <a:ext cx="1371600" cy="25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78280" y="3382920"/>
            <a:ext cx="771480" cy="1112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21481200">
            <a:off x="5553000" y="2616120"/>
            <a:ext cx="854280" cy="854280"/>
          </a:xfrm>
          <a:prstGeom prst="blockArc">
            <a:avLst>
              <a:gd name="adj1" fmla="val 14044917"/>
              <a:gd name="adj2" fmla="val 18355083"/>
              <a:gd name="adj3" fmla="val 46435"/>
            </a:avLst>
          </a:prstGeom>
          <a:solidFill>
            <a:srgbClr val="fafd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278840" y="2097360"/>
            <a:ext cx="90288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171" y="36516"/>
                </a:moveTo>
                <a:lnTo>
                  <a:pt x="-1664" y="6028"/>
                </a:lnTo>
              </a:path>
            </a:pathLst>
          </a:custGeom>
          <a:noFill/>
          <a:ln w="19080">
            <a:solidFill>
              <a:srgbClr val="5ffff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tex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04040" y="2741760"/>
            <a:ext cx="97776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2141" y="17464"/>
                </a:moveTo>
                <a:lnTo>
                  <a:pt x="-1547" y="6028"/>
                </a:lnTo>
              </a:path>
            </a:pathLst>
          </a:custGeom>
          <a:noFill/>
          <a:ln w="19080">
            <a:solidFill>
              <a:srgbClr val="5ffff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8" name="gameguy.orig.2halves" descr=""/>
          <p:cNvPicPr/>
          <p:nvPr/>
        </p:nvPicPr>
        <p:blipFill>
          <a:blip r:embed="rId1"/>
          <a:srcRect l="56431" t="59449" r="5347" b="1708"/>
          <a:stretch/>
        </p:blipFill>
        <p:spPr>
          <a:xfrm>
            <a:off x="880920" y="2590920"/>
            <a:ext cx="2700360" cy="27432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49" name=""/>
          <p:cNvSpPr/>
          <p:nvPr/>
        </p:nvSpPr>
        <p:spPr>
          <a:xfrm>
            <a:off x="613800" y="1523880"/>
            <a:ext cx="304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1 attribute vect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vert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691520" y="5409360"/>
            <a:ext cx="3277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, … ,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Results: wedge attributes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47640" y="1428840"/>
            <a:ext cx="345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iginal (43,000 fac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03560" y="1428840"/>
            <a:ext cx="358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d (5,000 fac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gameguy.hh.2halves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4186440" cy="418644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pic>
        <p:nvPicPr>
          <p:cNvPr id="455" name="gameguy.orig.2halves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4186080" cy="418644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Results: radiosity solution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5280" y="1523880"/>
            <a:ext cx="2481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iginal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300,000 fac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47200" y="1523880"/>
            <a:ext cx="211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d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5,000 fac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9" name="grotto.orig.2halves" descr=""/>
          <p:cNvPicPr/>
          <p:nvPr/>
        </p:nvPicPr>
        <p:blipFill>
          <a:blip r:embed="rId1"/>
          <a:stretch/>
        </p:blipFill>
        <p:spPr>
          <a:xfrm>
            <a:off x="123840" y="2452680"/>
            <a:ext cx="2895480" cy="289548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pic>
        <p:nvPicPr>
          <p:cNvPr id="460" name="grotto.hh" descr=""/>
          <p:cNvPicPr/>
          <p:nvPr/>
        </p:nvPicPr>
        <p:blipFill>
          <a:blip r:embed="rId2"/>
          <a:stretch/>
        </p:blipFill>
        <p:spPr>
          <a:xfrm>
            <a:off x="3191040" y="2452680"/>
            <a:ext cx="2895480" cy="289548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pic>
        <p:nvPicPr>
          <p:cNvPr id="461" name="grotto.hh.De" descr=""/>
          <p:cNvPicPr/>
          <p:nvPr/>
        </p:nvPicPr>
        <p:blipFill>
          <a:blip r:embed="rId3"/>
          <a:stretch/>
        </p:blipFill>
        <p:spPr>
          <a:xfrm>
            <a:off x="6105600" y="2452680"/>
            <a:ext cx="2895480" cy="289548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quadric error me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re intuitive, efficient, and accur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improve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moryless simplifi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olume preserv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dge-based quadr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Future work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440" y="1868400"/>
            <a:ext cx="7620120" cy="2511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ing parametric error for simplification of texture coordin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v4" descr=""/>
          <p:cNvPicPr/>
          <p:nvPr/>
        </p:nvPicPr>
        <p:blipFill>
          <a:blip r:embed="rId1">
            <a:lum bright="6000"/>
          </a:blip>
          <a:srcRect l="0" t="1280" r="0" b="1280"/>
          <a:stretch/>
        </p:blipFill>
        <p:spPr>
          <a:xfrm>
            <a:off x="228600" y="1419120"/>
            <a:ext cx="1830240" cy="342756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05" name=""/>
          <p:cNvSpPr/>
          <p:nvPr/>
        </p:nvSpPr>
        <p:spPr>
          <a:xfrm>
            <a:off x="2152800" y="317196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520" y="4899960"/>
            <a:ext cx="22212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3,000 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v3" descr=""/>
          <p:cNvPicPr/>
          <p:nvPr/>
        </p:nvPicPr>
        <p:blipFill>
          <a:blip r:embed="rId2">
            <a:lum bright="6000"/>
          </a:blip>
          <a:srcRect l="0" t="1280" r="0" b="1280"/>
          <a:stretch/>
        </p:blipFill>
        <p:spPr>
          <a:xfrm>
            <a:off x="2514600" y="1420920"/>
            <a:ext cx="1830240" cy="34272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08" name=""/>
          <p:cNvSpPr/>
          <p:nvPr/>
        </p:nvSpPr>
        <p:spPr>
          <a:xfrm>
            <a:off x="2887920" y="4899960"/>
            <a:ext cx="1072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v2" descr=""/>
          <p:cNvPicPr/>
          <p:nvPr/>
        </p:nvPicPr>
        <p:blipFill>
          <a:blip r:embed="rId3">
            <a:lum bright="6000"/>
          </a:blip>
          <a:srcRect l="0" t="1280" r="0" b="1280"/>
          <a:stretch/>
        </p:blipFill>
        <p:spPr>
          <a:xfrm>
            <a:off x="4800600" y="1420920"/>
            <a:ext cx="1828800" cy="342576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10" name=""/>
          <p:cNvSpPr/>
          <p:nvPr/>
        </p:nvSpPr>
        <p:spPr>
          <a:xfrm>
            <a:off x="4443480" y="317196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64200" y="4899960"/>
            <a:ext cx="1072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Mesh simplification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pic>
        <p:nvPicPr>
          <p:cNvPr id="113" name="v1" descr=""/>
          <p:cNvPicPr/>
          <p:nvPr/>
        </p:nvPicPr>
        <p:blipFill>
          <a:blip r:embed="rId4">
            <a:lum bright="6000"/>
          </a:blip>
          <a:srcRect l="0" t="1280" r="0" b="1280"/>
          <a:stretch/>
        </p:blipFill>
        <p:spPr>
          <a:xfrm>
            <a:off x="7086600" y="1419120"/>
            <a:ext cx="1830240" cy="34290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14" name=""/>
          <p:cNvSpPr/>
          <p:nvPr/>
        </p:nvSpPr>
        <p:spPr>
          <a:xfrm>
            <a:off x="6715080" y="3171960"/>
            <a:ext cx="304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52920" y="4899960"/>
            <a:ext cx="15278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3 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11840" y="5823720"/>
            <a:ext cx="4278600" cy="520560"/>
          </a:xfrm>
          <a:solidFill>
            <a:srgbClr val="3333cc"/>
          </a:solidFill>
          <a:ln w="28440">
            <a:solidFill>
              <a:srgbClr val="ffffff"/>
            </a:solidFill>
            <a:miter/>
            <a:head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mesh, expe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Edge collapse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8120" y="2709720"/>
            <a:ext cx="978120" cy="1413000"/>
          </a:xfrm>
          <a:custGeom>
            <a:avLst/>
            <a:gdLst/>
            <a:ahLst/>
            <a:rect l="l" t="t" r="r" b="b"/>
            <a:pathLst>
              <a:path w="574" h="745">
                <a:moveTo>
                  <a:pt x="573" y="0"/>
                </a:moveTo>
                <a:lnTo>
                  <a:pt x="0" y="411"/>
                </a:lnTo>
                <a:lnTo>
                  <a:pt x="573" y="744"/>
                </a:lnTo>
                <a:lnTo>
                  <a:pt x="573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14440" y="2714760"/>
            <a:ext cx="978120" cy="1415880"/>
          </a:xfrm>
          <a:custGeom>
            <a:avLst/>
            <a:gdLst/>
            <a:ahLst/>
            <a:rect l="l" t="t" r="r" b="b"/>
            <a:pathLst>
              <a:path w="573" h="745">
                <a:moveTo>
                  <a:pt x="0" y="0"/>
                </a:moveTo>
                <a:lnTo>
                  <a:pt x="2" y="744"/>
                </a:lnTo>
                <a:lnTo>
                  <a:pt x="572" y="411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14440" y="2714760"/>
            <a:ext cx="0" cy="14065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333440" y="2714760"/>
            <a:ext cx="981000" cy="78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333080" y="3497040"/>
            <a:ext cx="981000" cy="623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14440" y="2714760"/>
            <a:ext cx="982800" cy="78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314440" y="3497040"/>
            <a:ext cx="982800" cy="623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314440" y="1938240"/>
            <a:ext cx="703440" cy="776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017880" y="1937880"/>
            <a:ext cx="279360" cy="155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1614600" y="2095560"/>
            <a:ext cx="699840" cy="619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614600" y="1938240"/>
            <a:ext cx="1403280" cy="157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333440" y="2095560"/>
            <a:ext cx="281160" cy="1401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825560" y="4121280"/>
            <a:ext cx="488880" cy="614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2314080" y="4120920"/>
            <a:ext cx="368280" cy="750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3440" y="3497400"/>
            <a:ext cx="492120" cy="1238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1825200" y="4735080"/>
            <a:ext cx="857160" cy="136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682360" y="3497400"/>
            <a:ext cx="614520" cy="1374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30440" y="2838600"/>
            <a:ext cx="23544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" y="6122"/>
                </a:moveTo>
                <a:arcTo wR="10800" hR="10800" stAng="-9259892" swAng="7645930"/>
                <a:lnTo>
                  <a:pt x="10800" y="10800"/>
                </a:lnTo>
                <a:close/>
              </a:path>
              <a:path fill="none" w="21600" h="21600">
                <a:moveTo>
                  <a:pt x="1066" y="6122"/>
                </a:moveTo>
                <a:arcTo wR="10800" hR="10800" stAng="-9259892" swAng="7645930"/>
              </a:path>
            </a:pathLst>
          </a:custGeom>
          <a:noFill/>
          <a:ln cap="rnd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94720" y="238284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36040" y="389556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06600" y="326232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900760" y="3341520"/>
            <a:ext cx="982800" cy="155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83560" y="3341520"/>
            <a:ext cx="981000" cy="155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883560" y="1938240"/>
            <a:ext cx="699840" cy="1403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7583040" y="1937880"/>
            <a:ext cx="281160" cy="155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183000" y="2095200"/>
            <a:ext cx="700200" cy="1245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183000" y="1938240"/>
            <a:ext cx="1400040" cy="157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900760" y="2095560"/>
            <a:ext cx="282600" cy="1401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93960" y="3341520"/>
            <a:ext cx="489240" cy="1393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883200" y="3341160"/>
            <a:ext cx="368280" cy="153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00760" y="3497400"/>
            <a:ext cx="493560" cy="1238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394320" y="4735080"/>
            <a:ext cx="857520" cy="136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7251840" y="3497400"/>
            <a:ext cx="612720" cy="1374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27760" y="3284640"/>
            <a:ext cx="115920" cy="1252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382480" y="3446280"/>
            <a:ext cx="4415040" cy="2421000"/>
            <a:chOff x="2382480" y="3446280"/>
            <a:chExt cx="4415040" cy="2421000"/>
          </a:xfrm>
        </p:grpSpPr>
        <p:sp>
          <p:nvSpPr>
            <p:cNvPr id="153" name=""/>
            <p:cNvSpPr/>
            <p:nvPr/>
          </p:nvSpPr>
          <p:spPr>
            <a:xfrm>
              <a:off x="3657600" y="5348160"/>
              <a:ext cx="184788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fff0"/>
                  </a:solidFill>
                  <a:latin typeface="Arial"/>
                </a:rPr>
                <a:t>Selection?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2382480" y="3503160"/>
              <a:ext cx="1655640" cy="1816200"/>
            </a:xfrm>
            <a:prstGeom prst="line">
              <a:avLst/>
            </a:prstGeom>
            <a:ln w="25560">
              <a:solidFill>
                <a:srgbClr val="5ffff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141880" y="3446280"/>
              <a:ext cx="1655640" cy="1873080"/>
            </a:xfrm>
            <a:prstGeom prst="line">
              <a:avLst/>
            </a:prstGeom>
            <a:ln w="25560">
              <a:solidFill>
                <a:srgbClr val="5ffff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Previous selection techniques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315200" cy="5181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uristics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dge lengths, 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uals at sample point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Hoppe et al 1993],  [Kobbelt et al 1998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lerance track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Gueziec 1995],  [Bajaj &amp; Schikore 1996],</a:t>
            </a:r>
            <a:br>
              <a:rPr sz="2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Cohen et al 1997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Quadric error metric (QEM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Garland &amp; Heckbert 1997,1998]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very fast, reasonably accu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502920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Review of QEM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838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ize sum of squared distances to p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23960" y="2286000"/>
            <a:ext cx="1638360" cy="37908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2286000"/>
            <a:ext cx="1885680" cy="38289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343400"/>
            <a:ext cx="32004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114880" y="2285640"/>
            <a:ext cx="1666800" cy="380052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2286000"/>
            <a:ext cx="1847880" cy="37908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4343400"/>
            <a:ext cx="32004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23960" y="4339800"/>
            <a:ext cx="750960" cy="1731960"/>
          </a:xfrm>
          <a:prstGeom prst="line">
            <a:avLst/>
          </a:prstGeom>
          <a:ln w="76320">
            <a:solidFill>
              <a:srgbClr val="5fff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146040" y="4343040"/>
            <a:ext cx="878040" cy="1793880"/>
          </a:xfrm>
          <a:prstGeom prst="line">
            <a:avLst/>
          </a:prstGeom>
          <a:ln w="76320">
            <a:solidFill>
              <a:srgbClr val="5fff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476360" y="4338360"/>
            <a:ext cx="1670040" cy="3240"/>
          </a:xfrm>
          <a:prstGeom prst="line">
            <a:avLst/>
          </a:prstGeom>
          <a:ln w="76320">
            <a:solidFill>
              <a:srgbClr val="5fff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9440" y="6000840"/>
            <a:ext cx="155520" cy="155520"/>
          </a:xfrm>
          <a:prstGeom prst="ellipse">
            <a:avLst/>
          </a:prstGeom>
          <a:solidFill>
            <a:srgbClr val="5f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05080" y="4267080"/>
            <a:ext cx="155520" cy="155520"/>
          </a:xfrm>
          <a:prstGeom prst="ellipse">
            <a:avLst/>
          </a:prstGeom>
          <a:solidFill>
            <a:srgbClr val="5f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70080" y="4267080"/>
            <a:ext cx="155880" cy="155520"/>
          </a:xfrm>
          <a:prstGeom prst="ellipse">
            <a:avLst/>
          </a:prstGeom>
          <a:solidFill>
            <a:srgbClr val="5f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40200" y="6008760"/>
            <a:ext cx="155520" cy="155520"/>
          </a:xfrm>
          <a:prstGeom prst="ellipse">
            <a:avLst/>
          </a:prstGeom>
          <a:solidFill>
            <a:srgbClr val="5f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201720" y="3486240"/>
            <a:ext cx="975240" cy="857160"/>
            <a:chOff x="6201720" y="3486240"/>
            <a:chExt cx="975240" cy="857160"/>
          </a:xfrm>
        </p:grpSpPr>
        <p:sp>
          <p:nvSpPr>
            <p:cNvPr id="174" name=""/>
            <p:cNvSpPr/>
            <p:nvPr/>
          </p:nvSpPr>
          <p:spPr>
            <a:xfrm flipV="1">
              <a:off x="6670800" y="3486240"/>
              <a:ext cx="473040" cy="272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232320" y="3543480"/>
              <a:ext cx="438120" cy="2124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70800" y="3762360"/>
              <a:ext cx="0" cy="581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3615000">
              <a:off x="7086600" y="35049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48"/>
                  </a:moveTo>
                  <a:lnTo>
                    <a:pt x="48" y="48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6675480" y="426708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48"/>
                  </a:moveTo>
                  <a:lnTo>
                    <a:pt x="48" y="48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374600">
              <a:off x="6213240" y="355896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48"/>
                  </a:moveTo>
                  <a:lnTo>
                    <a:pt x="48" y="48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 flipV="1">
            <a:off x="5143680" y="3754080"/>
            <a:ext cx="1512720" cy="2311560"/>
          </a:xfrm>
          <a:prstGeom prst="line">
            <a:avLst/>
          </a:prstGeom>
          <a:ln w="76320">
            <a:solidFill>
              <a:srgbClr val="5fff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6665400" y="3743280"/>
            <a:ext cx="1739880" cy="2354400"/>
          </a:xfrm>
          <a:prstGeom prst="line">
            <a:avLst/>
          </a:prstGeom>
          <a:ln w="76320">
            <a:solidFill>
              <a:srgbClr val="5fff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94480" y="3683160"/>
            <a:ext cx="155520" cy="155520"/>
          </a:xfrm>
          <a:prstGeom prst="ellipse">
            <a:avLst/>
          </a:prstGeom>
          <a:solidFill>
            <a:srgbClr val="5f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305400" y="3244680"/>
            <a:ext cx="730440" cy="1035000"/>
            <a:chOff x="6305400" y="3244680"/>
            <a:chExt cx="730440" cy="1035000"/>
          </a:xfrm>
        </p:grpSpPr>
        <p:sp>
          <p:nvSpPr>
            <p:cNvPr id="184" name=""/>
            <p:cNvSpPr/>
            <p:nvPr/>
          </p:nvSpPr>
          <p:spPr>
            <a:xfrm>
              <a:off x="6483240" y="3495600"/>
              <a:ext cx="374760" cy="527040"/>
            </a:xfrm>
            <a:prstGeom prst="ellipse">
              <a:avLst/>
            </a:prstGeom>
            <a:noFill/>
            <a:ln w="38160">
              <a:solidFill>
                <a:srgbClr val="feaa2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00800" y="3371760"/>
              <a:ext cx="546120" cy="774720"/>
            </a:xfrm>
            <a:prstGeom prst="ellipse">
              <a:avLst/>
            </a:prstGeom>
            <a:noFill/>
            <a:ln w="38160">
              <a:solidFill>
                <a:srgbClr val="feaa2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05400" y="3244680"/>
              <a:ext cx="730440" cy="1035000"/>
            </a:xfrm>
            <a:prstGeom prst="ellipse">
              <a:avLst/>
            </a:prstGeom>
            <a:noFill/>
            <a:ln w="38160">
              <a:solidFill>
                <a:srgbClr val="feaa2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064680" y="23623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llustration in 2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13080" y="3429000"/>
            <a:ext cx="23544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" y="6122"/>
                </a:moveTo>
                <a:arcTo wR="10800" hR="10800" stAng="-9259892" swAng="7645930"/>
                <a:lnTo>
                  <a:pt x="10800" y="10800"/>
                </a:lnTo>
                <a:close/>
              </a:path>
              <a:path fill="none" w="21600" h="21600">
                <a:moveTo>
                  <a:pt x="1066" y="6122"/>
                </a:moveTo>
                <a:arcTo wR="10800" hR="10800" stAng="-9259892" swAng="7645930"/>
              </a:path>
            </a:pathLst>
          </a:custGeom>
          <a:noFill/>
          <a:ln cap="rnd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371160"/>
            <a:ext cx="41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Garland &amp; Heckbert 1997]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46840" y="6000840"/>
            <a:ext cx="155520" cy="155520"/>
          </a:xfrm>
          <a:prstGeom prst="ellipse">
            <a:avLst/>
          </a:prstGeom>
          <a:solidFill>
            <a:srgbClr val="5f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37600" y="6008760"/>
            <a:ext cx="155520" cy="155520"/>
          </a:xfrm>
          <a:prstGeom prst="ellipse">
            <a:avLst/>
          </a:prstGeom>
          <a:solidFill>
            <a:srgbClr val="5f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418000" y="11224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15040" y="153360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Squared distance to plane is quadric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14800" cy="762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f=(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87720" y="2289240"/>
            <a:ext cx="4267440" cy="1904760"/>
          </a:xfrm>
          <a:custGeom>
            <a:avLst/>
            <a:gdLst/>
            <a:ahLst/>
            <a:rect l="l" t="t" r="r" b="b"/>
            <a:pathLst>
              <a:path w="2688" h="1200">
                <a:moveTo>
                  <a:pt x="1872" y="0"/>
                </a:moveTo>
                <a:lnTo>
                  <a:pt x="0" y="816"/>
                </a:lnTo>
                <a:lnTo>
                  <a:pt x="2688" y="1200"/>
                </a:lnTo>
                <a:lnTo>
                  <a:pt x="1872" y="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3520" y="317808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56600" y="38178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41880" y="182088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85840" y="4327560"/>
            <a:ext cx="8472600" cy="2226960"/>
            <a:chOff x="285840" y="4327560"/>
            <a:chExt cx="8472600" cy="2226960"/>
          </a:xfrm>
        </p:grpSpPr>
        <p:sp>
          <p:nvSpPr>
            <p:cNvPr id="201" name=""/>
            <p:cNvSpPr/>
            <p:nvPr/>
          </p:nvSpPr>
          <p:spPr>
            <a:xfrm>
              <a:off x="3575160" y="4342680"/>
              <a:ext cx="4232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=  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en-US" sz="3000" spc="-1" strike="noStrike">
                  <a:solidFill>
                    <a:srgbClr val="fafd00"/>
                  </a:solidFill>
                  <a:latin typeface="Arial"/>
                </a:rPr>
                <a:t>nn</a:t>
              </a:r>
              <a:r>
                <a:rPr b="0" lang="en-US" sz="3000" spc="-1" strike="noStrike" baseline="30000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0" lang="en-US" sz="3000" spc="-1" strike="noStrike">
                  <a:solidFill>
                    <a:srgbClr val="fafd00"/>
                  </a:solidFill>
                  <a:latin typeface="Arial"/>
                </a:rPr>
                <a:t>2d</a:t>
              </a:r>
              <a:r>
                <a:rPr b="1" lang="en-US" sz="30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0" lang="en-US" sz="30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r>
                <a:rPr b="0" lang="en-US" sz="30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56800" y="4952160"/>
              <a:ext cx="428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=    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en-US" sz="3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v  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 +  </a:t>
              </a:r>
              <a:r>
                <a:rPr b="1" lang="en-US" sz="30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 v  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0" lang="en-US" sz="30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36640" y="5547600"/>
              <a:ext cx="2722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=    ( </a:t>
              </a:r>
              <a:r>
                <a:rPr b="1" lang="en-US" sz="3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 , </a:t>
              </a:r>
              <a:r>
                <a:rPr b="1" lang="en-US" sz="30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 , </a:t>
              </a:r>
              <a:r>
                <a:rPr b="0" lang="en-US" sz="30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 )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08200" y="6033960"/>
              <a:ext cx="435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fff0"/>
                  </a:solidFill>
                  <a:latin typeface="Arial"/>
                </a:rPr>
                <a:t>6 + 3 + 1 </a:t>
              </a:r>
              <a:r>
                <a:rPr b="0" lang="en-US" sz="2800" spc="-1" strike="noStrike">
                  <a:solidFill>
                    <a:srgbClr val="5ffff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5ffff0"/>
                  </a:solidFill>
                  <a:latin typeface="Arial"/>
                </a:rPr>
                <a:t> 10 coefficient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5840" y="4327560"/>
              <a:ext cx="314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) =  (</a:t>
              </a:r>
              <a:r>
                <a:rPr b="1" lang="en-US" sz="30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0" lang="en-US" sz="30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651320" y="1569600"/>
            <a:ext cx="5249520" cy="3305520"/>
            <a:chOff x="1651320" y="1569600"/>
            <a:chExt cx="5249520" cy="3305520"/>
          </a:xfrm>
        </p:grpSpPr>
        <p:grpSp>
          <p:nvGrpSpPr>
            <p:cNvPr id="207" name=""/>
            <p:cNvGrpSpPr/>
            <p:nvPr/>
          </p:nvGrpSpPr>
          <p:grpSpPr>
            <a:xfrm>
              <a:off x="6405480" y="2371680"/>
              <a:ext cx="495360" cy="990720"/>
              <a:chOff x="6405480" y="2371680"/>
              <a:chExt cx="495360" cy="990720"/>
            </a:xfrm>
          </p:grpSpPr>
          <p:sp>
            <p:nvSpPr>
              <p:cNvPr id="208" name=""/>
              <p:cNvSpPr/>
              <p:nvPr/>
            </p:nvSpPr>
            <p:spPr>
              <a:xfrm>
                <a:off x="6405480" y="2637000"/>
                <a:ext cx="31680" cy="725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71720" y="237168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afd00"/>
                    </a:solidFill>
                    <a:latin typeface="Arial"/>
                  </a:rPr>
                  <a:t>n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5361120" y="1574640"/>
              <a:ext cx="312480" cy="1828800"/>
              <a:chOff x="5361120" y="1574640"/>
              <a:chExt cx="312480" cy="1828800"/>
            </a:xfrm>
          </p:grpSpPr>
          <p:sp>
            <p:nvSpPr>
              <p:cNvPr id="211" name=""/>
              <p:cNvSpPr/>
              <p:nvPr/>
            </p:nvSpPr>
            <p:spPr>
              <a:xfrm>
                <a:off x="5361120" y="1574640"/>
                <a:ext cx="75960" cy="18288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61000" y="3181320"/>
                <a:ext cx="12600" cy="222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5437080" y="3184200"/>
                <a:ext cx="222480" cy="12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 rot="21469200">
              <a:off x="4852800" y="1574640"/>
              <a:ext cx="304560" cy="18367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7880 h 1836720"/>
                <a:gd name="textAreaBottom" fmla="*/ 1788840 h 18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92"/>
                  </a:lnTo>
                  <a:cubicBezTo>
                    <a:pt x="10800" y="9692"/>
                    <a:pt x="5400" y="10592"/>
                    <a:pt x="0" y="10592"/>
                  </a:cubicBezTo>
                  <a:cubicBezTo>
                    <a:pt x="5400" y="10592"/>
                    <a:pt x="10800" y="11492"/>
                    <a:pt x="10800" y="1239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51320" y="4324320"/>
              <a:ext cx="165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en-US" sz="30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0" lang="en-US" sz="30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62120" y="2463840"/>
              <a:ext cx="2103480" cy="1854000"/>
            </a:xfrm>
            <a:custGeom>
              <a:avLst/>
              <a:gdLst/>
              <a:ahLst/>
              <a:rect l="l" t="t" r="r" b="b"/>
              <a:pathLst>
                <a:path w="1364" h="1093">
                  <a:moveTo>
                    <a:pt x="1364" y="0"/>
                  </a:moveTo>
                  <a:cubicBezTo>
                    <a:pt x="1182" y="43"/>
                    <a:pt x="498" y="76"/>
                    <a:pt x="271" y="258"/>
                  </a:cubicBezTo>
                  <a:cubicBezTo>
                    <a:pt x="44" y="440"/>
                    <a:pt x="45" y="954"/>
                    <a:pt x="0" y="1093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Initialization of quadrics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ach vertex v in the original mes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851040" y="5638680"/>
                <a:ext cx="31114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v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f</m:t>
                        </m:r>
                        <m:r>
                          <m:t xml:space="preserve">⊃</m:t>
                        </m:r>
                        <m:r>
                          <m:t xml:space="preserve">v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20" name=""/>
          <p:cNvGrpSpPr/>
          <p:nvPr/>
        </p:nvGrpSpPr>
        <p:grpSpPr>
          <a:xfrm>
            <a:off x="1231560" y="2133360"/>
            <a:ext cx="2197080" cy="3276720"/>
            <a:chOff x="1231560" y="2133360"/>
            <a:chExt cx="2197080" cy="3276720"/>
          </a:xfrm>
        </p:grpSpPr>
        <p:sp>
          <p:nvSpPr>
            <p:cNvPr id="221" name=""/>
            <p:cNvSpPr/>
            <p:nvPr/>
          </p:nvSpPr>
          <p:spPr>
            <a:xfrm>
              <a:off x="2336040" y="3602160"/>
              <a:ext cx="42732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3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1231560" y="3700080"/>
              <a:ext cx="1099800" cy="174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31720" y="3700080"/>
              <a:ext cx="1096920" cy="174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331360" y="2133720"/>
              <a:ext cx="783000" cy="1566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114720" y="2133360"/>
              <a:ext cx="313920" cy="1741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1548000" y="2307960"/>
              <a:ext cx="783000" cy="1391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548360" y="2133720"/>
              <a:ext cx="1566000" cy="174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231920" y="2307960"/>
              <a:ext cx="316440" cy="1566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784520" y="3700080"/>
              <a:ext cx="547200" cy="1557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2331720" y="3699720"/>
              <a:ext cx="411840" cy="1709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31920" y="3875040"/>
              <a:ext cx="552600" cy="1382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1784520" y="5257440"/>
              <a:ext cx="959040" cy="15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743200" y="3875040"/>
              <a:ext cx="685080" cy="1534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69440" y="3636360"/>
              <a:ext cx="129600" cy="1404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50080" y="3056040"/>
              <a:ext cx="56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84760" y="2481840"/>
              <a:ext cx="56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17280" y="2969640"/>
              <a:ext cx="56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43480" y="4034160"/>
              <a:ext cx="56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9400" y="4576320"/>
              <a:ext cx="56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13080" y="3946680"/>
              <a:ext cx="56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1" name=""/>
          <p:cNvGraphicFramePr/>
          <p:nvPr/>
        </p:nvGraphicFramePr>
        <p:xfrm>
          <a:off x="4419720" y="2043000"/>
          <a:ext cx="43434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043000"/>
                    <a:ext cx="4343400" cy="392904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841640" y="6041880"/>
            <a:ext cx="34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[Garland &amp; Heckbert 199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Simplification using quadrics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8120" y="2143080"/>
            <a:ext cx="978120" cy="1413000"/>
          </a:xfrm>
          <a:custGeom>
            <a:avLst/>
            <a:gdLst/>
            <a:ahLst/>
            <a:rect l="l" t="t" r="r" b="b"/>
            <a:pathLst>
              <a:path w="574" h="745">
                <a:moveTo>
                  <a:pt x="573" y="0"/>
                </a:moveTo>
                <a:lnTo>
                  <a:pt x="0" y="411"/>
                </a:lnTo>
                <a:lnTo>
                  <a:pt x="573" y="744"/>
                </a:lnTo>
                <a:lnTo>
                  <a:pt x="573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14440" y="2147760"/>
            <a:ext cx="978120" cy="1416240"/>
          </a:xfrm>
          <a:custGeom>
            <a:avLst/>
            <a:gdLst/>
            <a:ahLst/>
            <a:rect l="l" t="t" r="r" b="b"/>
            <a:pathLst>
              <a:path w="573" h="745">
                <a:moveTo>
                  <a:pt x="0" y="0"/>
                </a:moveTo>
                <a:lnTo>
                  <a:pt x="2" y="744"/>
                </a:lnTo>
                <a:lnTo>
                  <a:pt x="572" y="411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14440" y="2147760"/>
            <a:ext cx="0" cy="14065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333440" y="2147760"/>
            <a:ext cx="981000" cy="78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1333080" y="2930040"/>
            <a:ext cx="981000" cy="623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14440" y="2147760"/>
            <a:ext cx="982800" cy="78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314440" y="2930040"/>
            <a:ext cx="982800" cy="623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314440" y="1371600"/>
            <a:ext cx="703440" cy="776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3017880" y="1371600"/>
            <a:ext cx="279360" cy="1558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1614600" y="1528560"/>
            <a:ext cx="699840" cy="618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614600" y="1371600"/>
            <a:ext cx="1403280" cy="157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333440" y="1528560"/>
            <a:ext cx="281160" cy="140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1825560" y="3554280"/>
            <a:ext cx="488880" cy="614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2314080" y="3554280"/>
            <a:ext cx="368280" cy="750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33440" y="2930400"/>
            <a:ext cx="492120" cy="1238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1825200" y="4168440"/>
            <a:ext cx="857160" cy="136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682360" y="2930400"/>
            <a:ext cx="614520" cy="1374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30440" y="2271600"/>
            <a:ext cx="23544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" y="6122"/>
                </a:moveTo>
                <a:arcTo wR="10800" hR="10800" stAng="-9259892" swAng="7645930"/>
                <a:lnTo>
                  <a:pt x="10800" y="10800"/>
                </a:lnTo>
                <a:close/>
              </a:path>
              <a:path fill="none" w="21600" h="21600">
                <a:moveTo>
                  <a:pt x="1066" y="6122"/>
                </a:moveTo>
                <a:arcTo wR="10800" hR="10800" stAng="-9259892" swAng="7645930"/>
              </a:path>
            </a:pathLst>
          </a:custGeom>
          <a:noFill/>
          <a:ln cap="rnd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94720" y="179712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16960" y="333864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87520" y="268596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900760" y="2774880"/>
            <a:ext cx="982800" cy="155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83560" y="2774880"/>
            <a:ext cx="981000" cy="155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883560" y="1371600"/>
            <a:ext cx="699840" cy="1403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7583040" y="1371600"/>
            <a:ext cx="281160" cy="1558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183000" y="1528560"/>
            <a:ext cx="700200" cy="1245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183000" y="1371600"/>
            <a:ext cx="1400040" cy="157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900760" y="1528560"/>
            <a:ext cx="282600" cy="140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393960" y="2774880"/>
            <a:ext cx="489240" cy="1393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6883200" y="2774520"/>
            <a:ext cx="368280" cy="153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00760" y="2930400"/>
            <a:ext cx="493560" cy="1238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394320" y="4168440"/>
            <a:ext cx="857520" cy="136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7251840" y="2930400"/>
            <a:ext cx="612720" cy="1374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27760" y="2717640"/>
            <a:ext cx="115920" cy="12564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42080" y="4494960"/>
            <a:ext cx="6761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) =  Q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)  +  Q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)  =  (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,c)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31440" y="5156280"/>
            <a:ext cx="509184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=  min</a:t>
            </a:r>
            <a:r>
              <a:rPr b="1" lang="en-US" sz="34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Q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) =  </a:t>
            </a: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3400" spc="-1" strike="noStrike" baseline="30000">
                <a:solidFill>
                  <a:srgbClr val="fafd00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73960" y="5891040"/>
            <a:ext cx="666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ize edge collapses by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20T17:41:50Z</dcterms:created>
  <dc:creator>Hugues Hoppe</dc:creator>
  <dc:description/>
  <dc:language>en-US</dc:language>
  <cp:lastModifiedBy>Hugues Hoppe</cp:lastModifiedBy>
  <cp:lastPrinted>1999-01-20T19:46:49Z</cp:lastPrinted>
  <dcterms:modified xsi:type="dcterms:W3CDTF">1999-11-08T21:04:07Z</dcterms:modified>
  <cp:revision>251</cp:revision>
  <dc:subject/>
  <dc:title>Optimization of mesh locality for transparent vertex caching</dc:title>
</cp:coreProperties>
</file>