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8404800" cy="329184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9AC-5BD6-4296-984A-FD64B61A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79640" y="1844388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8E6-4D0B-4B7C-A90F-9D97CDED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7554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2BF-5C3A-4534-BDFA-6ED86287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67432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46900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7964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67432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46900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C67-9230-4640-A99F-74FCE91D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B643-02A9-46DE-82D7-77C2ACB8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79640" y="6217920"/>
            <a:ext cx="34885440" cy="234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A179-3464-4479-B87A-1BE818A0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348854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9E89-B1A8-4827-B058-96158B1E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3D7F-7D9B-4BCE-866B-D4EF9C12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C080-BA89-4CBF-8CF4-4790BE04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39720" y="1463400"/>
            <a:ext cx="37125360" cy="135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9E12-75F7-41F4-B040-4F1524BB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1F69-5F54-4C4A-BB0E-DA5D692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79640" y="6217920"/>
            <a:ext cx="34885440" cy="234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ACD-7E10-41C3-8046-F1A43970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07554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99DE-424D-4EBE-8846-25BC47A0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F9A8-FEB1-40C9-AE95-BCCFCB74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79640" y="1844388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A7BC-08AD-4D38-B752-A56AF463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07554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0082-2197-423E-8D14-0BFD71AE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67432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46900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7964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467432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2646900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5777-15C5-42B4-BC49-333A6C04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348854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225-5D15-41B6-BDB7-8F7556BF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C53-CB0F-49C1-A725-439C0014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1CC-7CE2-465D-9677-2C98A7D1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1463400"/>
            <a:ext cx="37125360" cy="135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38D-3FD9-4C19-8A93-CB0C6F26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B82-70F1-4F69-812E-C8AF4DCD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7554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8A7-0191-404C-A45A-88381E3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4F5-CA91-4745-B346-794FB791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879280" y="29992680"/>
            <a:ext cx="800100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3122360" y="29992680"/>
            <a:ext cx="1216008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 algn="ctr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27523800" y="29992680"/>
            <a:ext cx="800100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 algn="r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075200"/>
                <a:tab algn="l" pos="8150400"/>
              </a:tabLst>
            </a:pPr>
            <a:fld id="{1FDD2B4A-F068-4AEE-8893-EA46E647D1D3}" type="slidenum"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6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2879640" y="6217920"/>
            <a:ext cx="34885440" cy="2340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txBody>
          <a:bodyPr lIns="410400" rIns="410400" tIns="205200" bIns="205200" anchor="t">
            <a:normAutofit/>
          </a:bodyPr>
          <a:p>
            <a:pPr marL="1528920" indent="-1528920">
              <a:spcBef>
                <a:spcPts val="3574"/>
              </a:spcBef>
              <a:buClr>
                <a:srgbClr val="0066ff"/>
              </a:buClr>
              <a:buSzPct val="55000"/>
              <a:buFont typeface="Monotype Sorts" charset="2"/>
              <a:buChar char="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1" marL="3311640" indent="-1273320">
              <a:spcBef>
                <a:spcPts val="3574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2" marL="5349960" indent="-1528920">
              <a:spcBef>
                <a:spcPts val="3574"/>
              </a:spcBef>
              <a:buClr>
                <a:srgbClr val="0066ff"/>
              </a:buClr>
              <a:buFont typeface="Arial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3" marL="7386480" indent="-1272960">
              <a:spcBef>
                <a:spcPts val="3574"/>
              </a:spcBef>
              <a:buClr>
                <a:srgbClr val="0066ff"/>
              </a:buClr>
              <a:buFont typeface="Arial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4" marL="9169560" indent="-1017720">
              <a:spcBef>
                <a:spcPts val="3574"/>
              </a:spcBef>
              <a:buClr>
                <a:srgbClr val="0066ff"/>
              </a:buClr>
              <a:buFont typeface="Arial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5" marL="9169560" indent="-10177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6" marL="9169560" indent="-10177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879280" y="29992680"/>
            <a:ext cx="800100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13122360" y="29992680"/>
            <a:ext cx="1216008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 algn="ctr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27523800" y="29992680"/>
            <a:ext cx="800100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 algn="r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075200"/>
                <a:tab algn="l" pos="8150400"/>
              </a:tabLst>
            </a:pPr>
            <a:fld id="{DD491E60-F594-402C-83EA-DFCF5D10E042}" type="slidenum"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39720" y="2925360"/>
            <a:ext cx="37125360" cy="841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410400" rIns="410400" tIns="205200" bIns="205200" anchor="ctr" anchorCtr="1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87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187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6.bin"/><Relationship Id="rId25" Type="http://schemas.openxmlformats.org/officeDocument/2006/relationships/image" Target="../media/image19.wmf"/><Relationship Id="rId26" Type="http://schemas.openxmlformats.org/officeDocument/2006/relationships/oleObject" Target="../embeddings/oleObject7.bin"/><Relationship Id="rId27" Type="http://schemas.openxmlformats.org/officeDocument/2006/relationships/image" Target="../media/image20.wmf"/><Relationship Id="rId28" Type="http://schemas.openxmlformats.org/officeDocument/2006/relationships/image" Target="../media/image21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image" Target="../media/image26.png"/><Relationship Id="rId34" Type="http://schemas.openxmlformats.org/officeDocument/2006/relationships/image" Target="../media/image27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1800" t="7200" r="4800" b="7800"/>
          <a:stretch/>
        </p:blipFill>
        <p:spPr>
          <a:xfrm>
            <a:off x="32307120" y="16595640"/>
            <a:ext cx="5288040" cy="488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03520" y="16846560"/>
            <a:ext cx="4925880" cy="49258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7040" y="514440"/>
            <a:ext cx="1577016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Times New Roman"/>
              </a:rPr>
              <a:t>Perfect Spatial Hashing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320440" y="514440"/>
            <a:ext cx="107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ylvain Lefebvre    Hugues Hopp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Microsoft Research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11811" t="11065" r="10128" b="6001"/>
          <a:stretch/>
        </p:blipFill>
        <p:spPr>
          <a:xfrm>
            <a:off x="30359520" y="6969240"/>
            <a:ext cx="2065320" cy="2193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47640" y="5073480"/>
            <a:ext cx="5996160" cy="59961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0920240" y="7153200"/>
            <a:ext cx="1783080" cy="17827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5111360" y="8094600"/>
            <a:ext cx="841320" cy="8413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6"/>
          <a:srcRect l="6647" t="6898" r="3076" b="-661"/>
          <a:stretch/>
        </p:blipFill>
        <p:spPr>
          <a:xfrm>
            <a:off x="20642400" y="4502160"/>
            <a:ext cx="7108560" cy="7385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rcRect l="12187" t="11626" r="10312" b="6186"/>
          <a:stretch/>
        </p:blipFill>
        <p:spPr>
          <a:xfrm>
            <a:off x="34664760" y="7807320"/>
            <a:ext cx="1189080" cy="126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101240" y="9353520"/>
            <a:ext cx="325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Hash t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59560" y="9353520"/>
            <a:ext cx="352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Offset t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62280" y="9367920"/>
            <a:ext cx="325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Hash t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95480" y="9367920"/>
            <a:ext cx="352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Offset t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01080" y="7956720"/>
            <a:ext cx="9903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14936760" y="18538920"/>
            <a:ext cx="4133880" cy="4132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20505600" y="18535680"/>
            <a:ext cx="4137120" cy="41353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19783440" y="25684200"/>
            <a:ext cx="4295880" cy="4295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11"/>
          <a:srcRect l="11400" t="1200" r="3009" b="0"/>
          <a:stretch/>
        </p:blipFill>
        <p:spPr>
          <a:xfrm>
            <a:off x="25993800" y="15149520"/>
            <a:ext cx="5495760" cy="6350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rcRect l="0" t="27600" r="0" b="16800"/>
          <a:stretch/>
        </p:blipFill>
        <p:spPr>
          <a:xfrm>
            <a:off x="25747560" y="26404920"/>
            <a:ext cx="6108840" cy="3417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32261040" y="24609600"/>
            <a:ext cx="5197680" cy="5197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831640" y="22885560"/>
            <a:ext cx="434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Vector ima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38520" y="22885560"/>
            <a:ext cx="36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prite ma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29560" y="3030228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lpha compre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98640" y="21623400"/>
            <a:ext cx="349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3D text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203160" y="2162340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3D pain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154080" y="30034080"/>
            <a:ext cx="32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47560" y="30034080"/>
            <a:ext cx="56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llision det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198840" y="1388736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Arial"/>
              </a:rPr>
              <a:t>2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13160" y="1388736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Arial"/>
              </a:rPr>
              <a:t>3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504920" y="13944600"/>
            <a:ext cx="33120" cy="18048240"/>
          </a:xfrm>
          <a:custGeom>
            <a:avLst/>
            <a:gdLst/>
            <a:ahLst/>
            <a:rect l="l" t="t" r="r" b="b"/>
            <a:pathLst>
              <a:path w="21" h="11369">
                <a:moveTo>
                  <a:pt x="21" y="0"/>
                </a:moveTo>
                <a:lnTo>
                  <a:pt x="0" y="11369"/>
                </a:lnTo>
              </a:path>
            </a:pathLst>
          </a:custGeom>
          <a:noFill/>
          <a:ln w="25560">
            <a:solidFill>
              <a:srgbClr val="cbcbc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24960" y="6512040"/>
            <a:ext cx="8001000" cy="4572000"/>
          </a:xfrm>
          <a:prstGeom prst="roundRect">
            <a:avLst>
              <a:gd name="adj" fmla="val 6106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69320" y="10155240"/>
            <a:ext cx="11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77720" y="10139400"/>
            <a:ext cx="9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070320" y="10139400"/>
            <a:ext cx="9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71480" y="10136160"/>
            <a:ext cx="11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939120" y="10153800"/>
            <a:ext cx="9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806240" y="10153800"/>
            <a:ext cx="9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13160" y="6512040"/>
            <a:ext cx="7772400" cy="4572000"/>
          </a:xfrm>
          <a:prstGeom prst="roundRect">
            <a:avLst>
              <a:gd name="adj" fmla="val 6106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0880" y="2762280"/>
            <a:ext cx="37566720" cy="0"/>
          </a:xfrm>
          <a:prstGeom prst="line">
            <a:avLst/>
          </a:prstGeom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80880" y="12039480"/>
            <a:ext cx="37566720" cy="0"/>
          </a:xfrm>
          <a:prstGeom prst="line">
            <a:avLst/>
          </a:prstGeom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3040" y="12519000"/>
            <a:ext cx="56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99"/>
                </a:solidFill>
                <a:uFillTx/>
                <a:latin typeface="Arial"/>
              </a:rPr>
              <a:t>Applica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9800" y="12519000"/>
            <a:ext cx="62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99"/>
                </a:solidFill>
                <a:uFillTx/>
                <a:latin typeface="Arial"/>
              </a:rPr>
              <a:t>Hash fun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11440" y="17997480"/>
            <a:ext cx="1405800" cy="1703160"/>
            <a:chOff x="3511440" y="17997480"/>
            <a:chExt cx="1405800" cy="1703160"/>
          </a:xfrm>
        </p:grpSpPr>
        <p:sp>
          <p:nvSpPr>
            <p:cNvPr id="125" name=""/>
            <p:cNvSpPr/>
            <p:nvPr/>
          </p:nvSpPr>
          <p:spPr>
            <a:xfrm>
              <a:off x="4355280" y="18012240"/>
              <a:ext cx="280800" cy="28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5280" y="18293400"/>
              <a:ext cx="28080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36080" y="1857492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36080" y="18856440"/>
              <a:ext cx="281160" cy="28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55280" y="19137600"/>
              <a:ext cx="28080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74120" y="1913760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92600" y="1941912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11440" y="1941912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92600" y="1799748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11440" y="1799748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73400" y="17716680"/>
            <a:ext cx="282600" cy="28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356000" y="17227440"/>
          <a:ext cx="652680" cy="717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356000" y="17227440"/>
                    <a:ext cx="65268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529080" y="19980360"/>
          <a:ext cx="1527120" cy="828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529080" y="19980360"/>
                    <a:ext cx="15271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8453520" y="20988360"/>
            <a:ext cx="2843280" cy="28414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9191160" y="20370960"/>
            <a:ext cx="816120" cy="1871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29880" y="22242600"/>
            <a:ext cx="280800" cy="28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399600" y="21488400"/>
          <a:ext cx="1847880" cy="830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399600" y="21488400"/>
                    <a:ext cx="18478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350280" y="16846560"/>
            <a:ext cx="1946520" cy="194616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891720" y="17500680"/>
            <a:ext cx="281160" cy="28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29960" y="17652960"/>
            <a:ext cx="1440" cy="1917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307440" y="16884720"/>
          <a:ext cx="2122560" cy="6890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307440" y="16884720"/>
                    <a:ext cx="212256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9631440" y="19554840"/>
            <a:ext cx="771480" cy="771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691560" y="19613520"/>
          <a:ext cx="660600" cy="6606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9691560" y="19613520"/>
                    <a:ext cx="660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0037880" y="18870480"/>
          <a:ext cx="1228680" cy="760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0037880" y="18870480"/>
                    <a:ext cx="122868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164760" y="21859920"/>
            <a:ext cx="21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360" y="21656520"/>
            <a:ext cx="20293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Hash</a:t>
            </a:r>
            <a:br>
              <a:rPr sz="4600"/>
            </a:b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table H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1080" y="17081640"/>
            <a:ext cx="2052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Offset</a:t>
            </a:r>
            <a:br>
              <a:rPr sz="4600"/>
            </a:b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0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564000" y="14511240"/>
          <a:ext cx="4981680" cy="1222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564000" y="14511240"/>
                    <a:ext cx="498168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7772400" y="17668800"/>
            <a:ext cx="1909800" cy="2292480"/>
            <a:chOff x="7772400" y="17668800"/>
            <a:chExt cx="1909800" cy="2292480"/>
          </a:xfrm>
        </p:grpSpPr>
        <p:sp>
          <p:nvSpPr>
            <p:cNvPr id="161" name=""/>
            <p:cNvSpPr/>
            <p:nvPr/>
          </p:nvSpPr>
          <p:spPr>
            <a:xfrm>
              <a:off x="7772400" y="17668800"/>
              <a:ext cx="1080" cy="2292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19961280"/>
              <a:ext cx="19098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05520" y="17664120"/>
            <a:ext cx="4770360" cy="4680"/>
          </a:xfrm>
          <a:prstGeom prst="line">
            <a:avLst/>
          </a:prstGeom>
          <a:ln w="3816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2120" y="24982560"/>
            <a:ext cx="1223532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Perfect hash on multidimensional data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8160" indent="-571680">
              <a:lnSpc>
                <a:spcPct val="100000"/>
              </a:lnSpc>
              <a:spcBef>
                <a:spcPts val="14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No collisions </a:t>
            </a:r>
            <a:r>
              <a:rPr b="0" lang="en-US" sz="5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ideal for GPU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8160" indent="-571680">
              <a:lnSpc>
                <a:spcPct val="100000"/>
              </a:lnSpc>
              <a:spcBef>
                <a:spcPts val="14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ingle lookup into a small offset tabl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Offsets only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~4 bits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per defined data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Access only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~4 instructions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on GPU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Optimized spatial coherenc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02040" y="22496400"/>
            <a:ext cx="50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46MB, 53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544000" y="22496400"/>
            <a:ext cx="50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4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56MB, 20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43920" y="30880080"/>
            <a:ext cx="50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2MB, 14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213480" y="30880080"/>
            <a:ext cx="31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0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58240" y="23758560"/>
            <a:ext cx="52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500KB, 70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8680" y="23758560"/>
            <a:ext cx="380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900KB, 200f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672400" y="14649480"/>
            <a:ext cx="512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075200"/>
                <a:tab algn="l" pos="8150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modulo table siz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041480" y="7954920"/>
            <a:ext cx="9907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239320" y="31150080"/>
            <a:ext cx="481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9bits/pixel, 80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75360" y="289926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1.8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8"/>
          <a:stretch/>
        </p:blipFill>
        <p:spPr>
          <a:xfrm>
            <a:off x="15441480" y="15171840"/>
            <a:ext cx="3124440" cy="31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76" name="" descr=""/>
          <p:cNvPicPr/>
          <p:nvPr/>
        </p:nvPicPr>
        <p:blipFill>
          <a:blip r:embed="rId29"/>
          <a:stretch/>
        </p:blipFill>
        <p:spPr>
          <a:xfrm>
            <a:off x="21012120" y="15171840"/>
            <a:ext cx="3124080" cy="31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77" name=""/>
          <p:cNvSpPr/>
          <p:nvPr/>
        </p:nvSpPr>
        <p:spPr>
          <a:xfrm>
            <a:off x="34442280" y="14935320"/>
            <a:ext cx="228600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0"/>
          <a:stretch/>
        </p:blipFill>
        <p:spPr>
          <a:xfrm>
            <a:off x="34458120" y="149464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6150480" y="15735240"/>
            <a:ext cx="50184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309160" y="16643520"/>
            <a:ext cx="0" cy="501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150480" y="16643520"/>
            <a:ext cx="501840" cy="457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1"/>
          <a:srcRect l="11811" t="12564" r="11065" b="6562"/>
          <a:stretch/>
        </p:blipFill>
        <p:spPr>
          <a:xfrm>
            <a:off x="29986200" y="17730720"/>
            <a:ext cx="1644840" cy="1725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5042400" y="172069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3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867480" y="192308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295800"/>
            <a:ext cx="35813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We design a perfect hash function to losslessly pack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parse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data while retaining efficient random access: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3640" y="14554080"/>
            <a:ext cx="2960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imply: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40400" y="4572000"/>
            <a:ext cx="66600" cy="7219800"/>
          </a:xfrm>
          <a:custGeom>
            <a:avLst/>
            <a:gdLst/>
            <a:ahLst/>
            <a:rect l="l" t="t" r="r" b="b"/>
            <a:pathLst>
              <a:path w="42" h="4548">
                <a:moveTo>
                  <a:pt x="0" y="0"/>
                </a:moveTo>
                <a:lnTo>
                  <a:pt x="42" y="4548"/>
                </a:lnTo>
              </a:path>
            </a:pathLst>
          </a:custGeom>
          <a:noFill/>
          <a:ln w="25560">
            <a:solidFill>
              <a:srgbClr val="cbcbc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011200" y="12344400"/>
            <a:ext cx="0" cy="20313720"/>
          </a:xfrm>
          <a:prstGeom prst="line">
            <a:avLst/>
          </a:prstGeom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2"/>
          <a:stretch/>
        </p:blipFill>
        <p:spPr>
          <a:xfrm>
            <a:off x="15306840" y="25688880"/>
            <a:ext cx="4267080" cy="4267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90" name="" descr=""/>
          <p:cNvPicPr/>
          <p:nvPr/>
        </p:nvPicPr>
        <p:blipFill>
          <a:blip r:embed="rId33"/>
          <a:srcRect l="10873" t="11301" r="10438" b="5654"/>
          <a:stretch/>
        </p:blipFill>
        <p:spPr>
          <a:xfrm>
            <a:off x="30632400" y="20102400"/>
            <a:ext cx="576360" cy="606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049280" y="2048364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70400" y="23302800"/>
            <a:ext cx="557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arest: 7.5MB, 37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4"/>
          <a:stretch/>
        </p:blipFill>
        <p:spPr>
          <a:xfrm>
            <a:off x="36956880" y="16363800"/>
            <a:ext cx="857520" cy="857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94" name=""/>
          <p:cNvSpPr/>
          <p:nvPr/>
        </p:nvSpPr>
        <p:spPr>
          <a:xfrm>
            <a:off x="36837720" y="172069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6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8:11:54Z</dcterms:created>
  <dc:creator>Hugues Hoppe</dc:creator>
  <dc:description>TechFest 2006 poster
Booth 214</dc:description>
  <dc:language>en-US</dc:language>
  <cp:lastModifiedBy>Hugues Hoppe</cp:lastModifiedBy>
  <dcterms:modified xsi:type="dcterms:W3CDTF">2006-12-06T16:49:38Z</dcterms:modified>
  <cp:revision>860</cp:revision>
  <dc:subject/>
  <dc:title>Perfect Spatial Hashing</dc:title>
</cp:coreProperties>
</file>